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7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6269-4EE5-4493-BF4B-17817D45C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D56B-C1A9-48F0-A7D6-684780340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94CE-418D-4412-965A-2B010D68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9E0-8A80-401C-B3B4-314284F6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CC6-2164-4046-A1B8-980216AE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BB0-8FEB-46AD-8CCD-4A24C89F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FD7-07A6-4057-A2A5-DA335CEA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2B5B-C14C-4C88-A5D5-DAB955B9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D409-9F95-459C-BB3E-35F28887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BDA6-3791-4B52-AC79-E84A618A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878-02A5-4B1B-921B-F4B34C0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D38C-1A81-4C4E-B0DA-8268AC40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F31A-57A0-42E3-909B-EFBDF142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B67D-D142-49FB-B3D6-C03BA2A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8FB-0A79-4D53-97C7-F2A3D5F4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F4A4-D4B5-414C-BBBC-71889B3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9B2B-C23C-442F-9E49-5B9E324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832-C7E4-493A-A029-B5718FDD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AE9-D362-4BEB-9F45-05DB445E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04FC-93DC-4F23-A5D7-576C6430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A50-76EC-493A-BF5F-F675F38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01E-A5B2-4286-A1C6-56283AE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940-3064-487A-BEF3-E4694A03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7FB-3B52-4BF1-9216-9E4AA8E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7CC-033A-4967-A4F8-2220399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13B-CB8D-48BD-9B93-C85CBC0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CB4-BC16-4A57-9783-8256C44F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BB62-8DA8-40F4-8AAF-D94FFF7E7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EEEA-4AE2-4FE2-93AA-4D7C483F8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G.9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Quadrilateral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Part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8989"/>
                </a:solidFill>
                <a:latin typeface="Calibri"/>
              </a:rPr>
              <a:t>Parallelogram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172200" y="5638680"/>
            <a:ext cx="2527200" cy="876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223280" y="601992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Arial"/>
              </a:rPr>
              <a:t>Modified by Lisa P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gon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segments that join non-consecutive ver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in this diagram, the only two diagonals are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3657600" y="3429000"/>
          <a:ext cx="213372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429000"/>
                    <a:ext cx="2133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3657600" cy="17701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 flipV="1">
            <a:off x="3276720" y="4723920"/>
            <a:ext cx="2895480" cy="1143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657600" y="4724280"/>
            <a:ext cx="2057400" cy="11430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onal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diagonals of a parallelogram intersect, they meet at the midpoint of each diag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P is the midpoint of  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ey bisect each other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                and         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diagonals are not congruent!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260960" y="2590920"/>
          <a:ext cx="16207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2590920"/>
                    <a:ext cx="1620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905120" y="3505320"/>
          <a:ext cx="127944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05320"/>
                    <a:ext cx="1279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6"/>
          <p:cNvGraphicFramePr/>
          <p:nvPr/>
        </p:nvGraphicFramePr>
        <p:xfrm>
          <a:off x="3851280" y="3505320"/>
          <a:ext cx="1270080" cy="32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3505320"/>
                    <a:ext cx="127008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7" descr=""/>
          <p:cNvPicPr/>
          <p:nvPr/>
        </p:nvPicPr>
        <p:blipFill>
          <a:blip r:embed="rId7"/>
          <a:stretch/>
        </p:blipFill>
        <p:spPr>
          <a:xfrm>
            <a:off x="2819520" y="4551480"/>
            <a:ext cx="421452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8"/>
          <p:cNvGraphicFramePr/>
          <p:nvPr/>
        </p:nvGraphicFramePr>
        <p:xfrm>
          <a:off x="6934320" y="4267080"/>
          <a:ext cx="1752480" cy="41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34320" y="4267080"/>
                    <a:ext cx="17524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9" descr=""/>
          <p:cNvPicPr/>
          <p:nvPr/>
        </p:nvPicPr>
        <p:blipFill>
          <a:blip r:embed="rId10"/>
          <a:stretch/>
        </p:blipFill>
        <p:spPr>
          <a:xfrm rot="7800000">
            <a:off x="4213800" y="5310720"/>
            <a:ext cx="335160" cy="76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11"/>
          <a:stretch/>
        </p:blipFill>
        <p:spPr>
          <a:xfrm rot="7800000">
            <a:off x="5356800" y="6072840"/>
            <a:ext cx="334800" cy="76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12"/>
          <a:stretch/>
        </p:blipFill>
        <p:spPr>
          <a:xfrm rot="8100000">
            <a:off x="4191120" y="5867280"/>
            <a:ext cx="196560" cy="3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13"/>
          <a:stretch/>
        </p:blipFill>
        <p:spPr>
          <a:xfrm rot="8100000">
            <a:off x="5638320" y="5181480"/>
            <a:ext cx="196920" cy="3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onal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or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agonals of a parallelogram bisect each othe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276720" cy="230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 rot="7800000">
            <a:off x="4137480" y="3634560"/>
            <a:ext cx="334800" cy="76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 rot="7800000">
            <a:off x="5051880" y="4320360"/>
            <a:ext cx="334800" cy="76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4"/>
          <a:stretch/>
        </p:blipFill>
        <p:spPr>
          <a:xfrm rot="8100000">
            <a:off x="4114080" y="4190760"/>
            <a:ext cx="196920" cy="36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5"/>
          <a:stretch/>
        </p:blipFill>
        <p:spPr>
          <a:xfrm rot="8100000">
            <a:off x="5257080" y="3504960"/>
            <a:ext cx="196920" cy="36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llelogram Summ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its definition,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ther properties (theorems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angl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cutive angles are supplemen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onals bisect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Draw          HKL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Complete:  HK = _______ 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P = __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m&lt;K = m&lt;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m&lt;L + m&lt;______ = 18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If m&lt;P = 6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m&lt;H = ____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lt;K = ______ and m&lt;L =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514600" y="1752480"/>
            <a:ext cx="609480" cy="304920"/>
          </a:xfrm>
          <a:prstGeom prst="parallelogram">
            <a:avLst>
              <a:gd name="adj" fmla="val 4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 Draw in the diagonals.  They intersect at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Complete: If HM = 5, then ML = 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If KM = 7, then KP = 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If HL = 15, then ML = 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 If m&lt;HPK = 3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     m&lt;PKL = _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2160" y="2361960"/>
            <a:ext cx="81342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Properties of Parallelogr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angles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cutive angles are supplemen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onals bisect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9240" y="533160"/>
            <a:ext cx="808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can you tell if a quadrilateral is a parallelo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120" y="1722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f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quadrilateral is a parallelogram iff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ert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quadrilateral is a parallelogram, then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opposite sides of a quadrilateral are parallel, then it is a parallel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6"/>
          <p:cNvSpPr/>
          <p:nvPr/>
        </p:nvSpPr>
        <p:spPr>
          <a:xfrm>
            <a:off x="1352160" y="833400"/>
            <a:ext cx="65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ng Quadrilaterals as Parallel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928880" y="1800360"/>
            <a:ext cx="69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 pairs of opposite sides of a quadrilateral are congruent, then the quadrilateral is a parallelogr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2955960" y="3368520"/>
            <a:ext cx="2814480" cy="1309680"/>
          </a:xfrm>
          <a:prstGeom prst="parallelogram">
            <a:avLst>
              <a:gd name="adj" fmla="val 523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46240" y="1784520"/>
            <a:ext cx="21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4503600" y="3213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4040280" y="4551480"/>
            <a:ext cx="0" cy="304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3"/>
          <p:cNvSpPr/>
          <p:nvPr/>
        </p:nvSpPr>
        <p:spPr>
          <a:xfrm flipH="1" flipV="1">
            <a:off x="3195720" y="3905280"/>
            <a:ext cx="304560" cy="76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 flipH="1" flipV="1">
            <a:off x="3242880" y="3782880"/>
            <a:ext cx="304920" cy="76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 flipH="1" flipV="1">
            <a:off x="5292360" y="3898800"/>
            <a:ext cx="304920" cy="76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6"/>
          <p:cNvSpPr/>
          <p:nvPr/>
        </p:nvSpPr>
        <p:spPr>
          <a:xfrm flipH="1" flipV="1">
            <a:off x="5231880" y="40431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159000" y="315756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46680" y="3171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2532240" y="4362480"/>
            <a:ext cx="3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5099040" y="442116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01600" y="477360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pair of opposite sides of a quadrilateral are both congruent and parallel, then the quadrilateral is a parallelogr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223920" y="4216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4630680" y="335124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4"/>
          <p:cNvSpPr/>
          <p:nvPr/>
        </p:nvSpPr>
        <p:spPr>
          <a:xfrm>
            <a:off x="4248000" y="466740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36"/>
          <p:cNvGraphicFramePr/>
          <p:nvPr/>
        </p:nvGraphicFramePr>
        <p:xfrm>
          <a:off x="393840" y="2625840"/>
          <a:ext cx="844380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625840"/>
                    <a:ext cx="8443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7"/>
          <p:cNvGraphicFramePr/>
          <p:nvPr/>
        </p:nvGraphicFramePr>
        <p:xfrm>
          <a:off x="409680" y="5656320"/>
          <a:ext cx="82152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680" y="5656320"/>
                    <a:ext cx="82152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llelogr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quadrilateral whose opposite sides are parall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symbol is a small figur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174840" y="2913120"/>
            <a:ext cx="3733920" cy="180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5"/>
          <p:cNvGraphicFramePr/>
          <p:nvPr/>
        </p:nvGraphicFramePr>
        <p:xfrm>
          <a:off x="3581280" y="4800600"/>
          <a:ext cx="267984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4800600"/>
                    <a:ext cx="2679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1066680" y="568008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1"/>
          <p:cNvSpPr/>
          <p:nvPr/>
        </p:nvSpPr>
        <p:spPr>
          <a:xfrm rot="1200000">
            <a:off x="3657240" y="365760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2"/>
          <p:cNvSpPr/>
          <p:nvPr/>
        </p:nvSpPr>
        <p:spPr>
          <a:xfrm rot="1200000">
            <a:off x="6172200" y="3733920"/>
            <a:ext cx="304920" cy="164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3"/>
          <p:cNvSpPr/>
          <p:nvPr/>
        </p:nvSpPr>
        <p:spPr>
          <a:xfrm rot="5400000">
            <a:off x="4654080" y="319392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5"/>
          <p:cNvSpPr/>
          <p:nvPr/>
        </p:nvSpPr>
        <p:spPr>
          <a:xfrm rot="5400000">
            <a:off x="4959000" y="319392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6"/>
          <p:cNvSpPr/>
          <p:nvPr/>
        </p:nvSpPr>
        <p:spPr>
          <a:xfrm rot="5400000">
            <a:off x="4425480" y="4413240"/>
            <a:ext cx="304920" cy="1652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7"/>
          <p:cNvSpPr/>
          <p:nvPr/>
        </p:nvSpPr>
        <p:spPr>
          <a:xfrm rot="5400000">
            <a:off x="4806720" y="4413240"/>
            <a:ext cx="304920" cy="16488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4603680" y="3025800"/>
            <a:ext cx="4191120" cy="1752480"/>
          </a:xfrm>
          <a:prstGeom prst="parallelogram">
            <a:avLst>
              <a:gd name="adj" fmla="val 5978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9"/>
          <p:cNvSpPr/>
          <p:nvPr/>
        </p:nvSpPr>
        <p:spPr>
          <a:xfrm>
            <a:off x="4803840" y="4413240"/>
            <a:ext cx="398520" cy="409680"/>
          </a:xfrm>
          <a:custGeom>
            <a:avLst/>
            <a:gdLst/>
            <a:ahLst/>
            <a:rect l="l" t="t" r="r" b="b"/>
            <a:pathLst>
              <a:path fill="none" w="21600" h="2216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89"/>
                  <a:pt x="21597" y="21978"/>
                  <a:pt x="21592" y="22167"/>
                </a:cubicBezTo>
              </a:path>
              <a:path stroke="0" w="21600" h="2216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89"/>
                  <a:pt x="21597" y="21978"/>
                  <a:pt x="21592" y="221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11"/>
          <p:cNvSpPr/>
          <p:nvPr/>
        </p:nvSpPr>
        <p:spPr>
          <a:xfrm>
            <a:off x="4865760" y="4289400"/>
            <a:ext cx="533160" cy="542880"/>
          </a:xfrm>
          <a:custGeom>
            <a:avLst/>
            <a:gdLst/>
            <a:ahLst/>
            <a:rect l="l" t="t" r="r" b="b"/>
            <a:pathLst>
              <a:path fill="none" w="21600" h="247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65"/>
                  <a:pt x="21521" y="23729"/>
                  <a:pt x="21364" y="24784"/>
                </a:cubicBezTo>
              </a:path>
              <a:path stroke="0" w="21600" h="247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65"/>
                  <a:pt x="21521" y="23729"/>
                  <a:pt x="21364" y="247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12"/>
          <p:cNvSpPr/>
          <p:nvPr/>
        </p:nvSpPr>
        <p:spPr>
          <a:xfrm rot="10908000">
            <a:off x="8143560" y="3055680"/>
            <a:ext cx="446040" cy="295200"/>
          </a:xfrm>
          <a:custGeom>
            <a:avLst/>
            <a:gdLst/>
            <a:ahLst/>
            <a:rect l="l" t="t" r="r" b="b"/>
            <a:pathLst>
              <a:path fill="none" w="28450" h="22168">
                <a:moveTo>
                  <a:pt x="-1" y="1114"/>
                </a:moveTo>
                <a:cubicBezTo>
                  <a:pt x="2208" y="376"/>
                  <a:pt x="4521" y="-1"/>
                  <a:pt x="6850" y="0"/>
                </a:cubicBezTo>
                <a:cubicBezTo>
                  <a:pt x="18779" y="0"/>
                  <a:pt x="28450" y="9670"/>
                  <a:pt x="28450" y="21600"/>
                </a:cubicBezTo>
                <a:cubicBezTo>
                  <a:pt x="28450" y="21789"/>
                  <a:pt x="28447" y="21978"/>
                  <a:pt x="28442" y="22167"/>
                </a:cubicBezTo>
              </a:path>
              <a:path stroke="0" w="28450" h="22168">
                <a:moveTo>
                  <a:pt x="-1" y="1114"/>
                </a:moveTo>
                <a:cubicBezTo>
                  <a:pt x="2208" y="376"/>
                  <a:pt x="4521" y="-1"/>
                  <a:pt x="6850" y="0"/>
                </a:cubicBezTo>
                <a:cubicBezTo>
                  <a:pt x="18779" y="0"/>
                  <a:pt x="28450" y="9670"/>
                  <a:pt x="28450" y="21600"/>
                </a:cubicBezTo>
                <a:cubicBezTo>
                  <a:pt x="28450" y="21789"/>
                  <a:pt x="28447" y="21978"/>
                  <a:pt x="28442" y="22167"/>
                </a:cubicBezTo>
                <a:lnTo>
                  <a:pt x="6850" y="21600"/>
                </a:lnTo>
                <a:lnTo>
                  <a:pt x="-1" y="1114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13"/>
          <p:cNvSpPr/>
          <p:nvPr/>
        </p:nvSpPr>
        <p:spPr>
          <a:xfrm rot="11320200">
            <a:off x="7972560" y="3023640"/>
            <a:ext cx="511200" cy="439560"/>
          </a:xfrm>
          <a:custGeom>
            <a:avLst/>
            <a:gdLst/>
            <a:ahLst/>
            <a:rect l="l" t="t" r="r" b="b"/>
            <a:pathLst>
              <a:path fill="none" w="25022" h="24784">
                <a:moveTo>
                  <a:pt x="-1" y="272"/>
                </a:moveTo>
                <a:cubicBezTo>
                  <a:pt x="1131" y="91"/>
                  <a:pt x="2275" y="-1"/>
                  <a:pt x="3422" y="0"/>
                </a:cubicBezTo>
                <a:cubicBezTo>
                  <a:pt x="15351" y="0"/>
                  <a:pt x="25022" y="9670"/>
                  <a:pt x="25022" y="21600"/>
                </a:cubicBezTo>
                <a:cubicBezTo>
                  <a:pt x="25022" y="22665"/>
                  <a:pt x="24943" y="23729"/>
                  <a:pt x="24786" y="24784"/>
                </a:cubicBezTo>
              </a:path>
              <a:path stroke="0" w="25022" h="24784">
                <a:moveTo>
                  <a:pt x="-1" y="272"/>
                </a:moveTo>
                <a:cubicBezTo>
                  <a:pt x="1131" y="91"/>
                  <a:pt x="2275" y="-1"/>
                  <a:pt x="3422" y="0"/>
                </a:cubicBezTo>
                <a:cubicBezTo>
                  <a:pt x="15351" y="0"/>
                  <a:pt x="25022" y="9670"/>
                  <a:pt x="25022" y="21600"/>
                </a:cubicBezTo>
                <a:cubicBezTo>
                  <a:pt x="25022" y="22665"/>
                  <a:pt x="24943" y="23729"/>
                  <a:pt x="24786" y="24784"/>
                </a:cubicBezTo>
                <a:lnTo>
                  <a:pt x="3422" y="21600"/>
                </a:lnTo>
                <a:lnTo>
                  <a:pt x="-1" y="272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rc 14"/>
          <p:cNvSpPr/>
          <p:nvPr/>
        </p:nvSpPr>
        <p:spPr>
          <a:xfrm rot="16396800">
            <a:off x="7512480" y="4361040"/>
            <a:ext cx="398520" cy="463320"/>
          </a:xfrm>
          <a:custGeom>
            <a:avLst/>
            <a:gdLst/>
            <a:ahLst/>
            <a:rect l="l" t="t" r="r" b="b"/>
            <a:pathLst>
              <a:path fill="none" w="21600" h="251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774"/>
                  <a:pt x="21504" y="23947"/>
                  <a:pt x="21313" y="25107"/>
                </a:cubicBezTo>
              </a:path>
              <a:path stroke="0" w="21600" h="2510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774"/>
                  <a:pt x="21504" y="23947"/>
                  <a:pt x="21313" y="2510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rc 15"/>
          <p:cNvSpPr/>
          <p:nvPr/>
        </p:nvSpPr>
        <p:spPr>
          <a:xfrm rot="5824200">
            <a:off x="5569560" y="2904480"/>
            <a:ext cx="384120" cy="554040"/>
          </a:xfrm>
          <a:custGeom>
            <a:avLst/>
            <a:gdLst/>
            <a:ahLst/>
            <a:rect l="l" t="t" r="r" b="b"/>
            <a:pathLst>
              <a:path fill="none" w="24399" h="27839">
                <a:moveTo>
                  <a:pt x="0" y="182"/>
                </a:moveTo>
                <a:cubicBezTo>
                  <a:pt x="928" y="60"/>
                  <a:pt x="1863" y="-1"/>
                  <a:pt x="2799" y="0"/>
                </a:cubicBezTo>
                <a:cubicBezTo>
                  <a:pt x="14728" y="0"/>
                  <a:pt x="24399" y="9670"/>
                  <a:pt x="24399" y="21600"/>
                </a:cubicBezTo>
                <a:cubicBezTo>
                  <a:pt x="24399" y="23713"/>
                  <a:pt x="24088" y="25815"/>
                  <a:pt x="23478" y="27839"/>
                </a:cubicBezTo>
              </a:path>
              <a:path stroke="0" w="24399" h="27839">
                <a:moveTo>
                  <a:pt x="0" y="182"/>
                </a:moveTo>
                <a:cubicBezTo>
                  <a:pt x="928" y="60"/>
                  <a:pt x="1863" y="-1"/>
                  <a:pt x="2799" y="0"/>
                </a:cubicBezTo>
                <a:cubicBezTo>
                  <a:pt x="14728" y="0"/>
                  <a:pt x="24399" y="9670"/>
                  <a:pt x="24399" y="21600"/>
                </a:cubicBezTo>
                <a:cubicBezTo>
                  <a:pt x="24399" y="23713"/>
                  <a:pt x="24088" y="25815"/>
                  <a:pt x="23478" y="27839"/>
                </a:cubicBezTo>
                <a:lnTo>
                  <a:pt x="2799" y="21600"/>
                </a:lnTo>
                <a:lnTo>
                  <a:pt x="0" y="182"/>
                </a:lnTo>
                <a:close/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179720" y="530280"/>
            <a:ext cx="28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33280" y="21780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246240" y="1712880"/>
            <a:ext cx="21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219240" y="485136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agonals of a quadrilateral bisect each other, then the quadrilateral is a parallelogr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239760" y="43750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 flipH="1">
            <a:off x="4586040" y="3014640"/>
            <a:ext cx="4235400" cy="1773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 flipH="1" flipV="1">
            <a:off x="5627160" y="3015720"/>
            <a:ext cx="2109960" cy="1752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H="1">
            <a:off x="6130440" y="3422520"/>
            <a:ext cx="281160" cy="2048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 flipH="1">
            <a:off x="7016760" y="4162320"/>
            <a:ext cx="280800" cy="2048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 flipH="1" flipV="1">
            <a:off x="6006960" y="3970440"/>
            <a:ext cx="20664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H="1" flipV="1">
            <a:off x="5862240" y="4027320"/>
            <a:ext cx="20628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7"/>
          <p:cNvSpPr/>
          <p:nvPr/>
        </p:nvSpPr>
        <p:spPr>
          <a:xfrm flipH="1" flipV="1">
            <a:off x="7429320" y="3403440"/>
            <a:ext cx="20628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8"/>
          <p:cNvSpPr/>
          <p:nvPr/>
        </p:nvSpPr>
        <p:spPr>
          <a:xfrm flipH="1" flipV="1">
            <a:off x="7284600" y="3490920"/>
            <a:ext cx="206280" cy="3175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5133960" y="2751120"/>
            <a:ext cx="5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8447040" y="2603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4202280" y="4406760"/>
            <a:ext cx="3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7799400" y="458136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6459480" y="397656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34"/>
          <p:cNvGraphicFramePr/>
          <p:nvPr/>
        </p:nvGraphicFramePr>
        <p:xfrm>
          <a:off x="353880" y="3083040"/>
          <a:ext cx="4078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3083040"/>
                    <a:ext cx="4078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 Box 36"/>
          <p:cNvSpPr/>
          <p:nvPr/>
        </p:nvSpPr>
        <p:spPr>
          <a:xfrm>
            <a:off x="174600" y="365616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n Quad. EFGH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37"/>
          <p:cNvGraphicFramePr/>
          <p:nvPr/>
        </p:nvGraphicFramePr>
        <p:xfrm>
          <a:off x="4237200" y="5226120"/>
          <a:ext cx="377172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0" y="5226120"/>
                    <a:ext cx="37717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40"/>
          <p:cNvSpPr/>
          <p:nvPr/>
        </p:nvSpPr>
        <p:spPr>
          <a:xfrm>
            <a:off x="326880" y="5622840"/>
            <a:ext cx="42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n Quad. EFGH is a parallel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4773600" y="5762520"/>
            <a:ext cx="37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M = GM and HM = 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6760" y="79524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5 ways to prove that a quadrilateral is a paralle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033560" y="214632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s of opposite sides are || 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033560" y="281952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s of opposite side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033560" y="3476520"/>
            <a:ext cx="75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o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 of opposite sides are both ||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033560" y="41893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Show that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irs of opposite angle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033560" y="493884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Show that the diagonals bisect each o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930320" y="172872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s of x and y that ensures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19240" y="1698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6167520" y="2509920"/>
            <a:ext cx="2287440" cy="1174680"/>
          </a:xfrm>
          <a:prstGeom prst="parallelogram">
            <a:avLst>
              <a:gd name="adj" fmla="val 486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5992920" y="271476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8170920" y="29304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x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7253280" y="20750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6878520" y="358632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944640" y="2511360"/>
            <a:ext cx="173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x = 4x +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236760" y="2627280"/>
            <a:ext cx="24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y + 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231840" y="4194000"/>
            <a:ext cx="8650080" cy="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254160" y="4276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851120" y="421812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x and y that ensure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571680" y="5072040"/>
            <a:ext cx="2287440" cy="1174680"/>
          </a:xfrm>
          <a:prstGeom prst="parallelogram">
            <a:avLst>
              <a:gd name="adj" fmla="val 486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1770120" y="5861160"/>
            <a:ext cx="7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2224080" y="508968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1135080" y="50943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x + 8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4165560" y="4702320"/>
            <a:ext cx="1900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+ 8 =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516720" y="4673520"/>
            <a:ext cx="2104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 + 120 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y 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8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8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557B-AE4A-468F-98F1-9E9A87D8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5238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D5F8-10EA-4CFC-B31E-E7747502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43430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28600" y="18288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828800" y="18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477120" y="2438280"/>
            <a:ext cx="2057400" cy="1219320"/>
          </a:xfrm>
          <a:prstGeom prst="rect">
            <a:avLst/>
          </a:prstGeom>
          <a:solidFill>
            <a:srgbClr val="f7fa6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67816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 flipH="1">
            <a:off x="6477120" y="2666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82296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8229600" y="2666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6477120" y="33526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781680" y="3352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8305920" y="3429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8305920" y="3429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7391520" y="243828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7391520" y="365760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V="1">
            <a:off x="6477120" y="2895120"/>
            <a:ext cx="17280" cy="3034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 flipV="1">
            <a:off x="8534520" y="2895120"/>
            <a:ext cx="17280" cy="30348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380880" y="2433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ctangle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380880" y="3809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us a rectangle has all the properties of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606960" y="308124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 since opposite angl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82D4-8220-46BF-9310-47DEF808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perties of Rectang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28600" y="2514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B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D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D are isosceles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7696080" y="35053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4"/>
          <p:cNvSpPr/>
          <p:nvPr/>
        </p:nvSpPr>
        <p:spPr>
          <a:xfrm flipH="1">
            <a:off x="632412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6400800" y="41148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7543440" y="4038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1828800" y="1752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a parallelogram is a rectangle, then its diagonal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31"/>
          <p:cNvGrpSpPr/>
          <p:nvPr/>
        </p:nvGrpSpPr>
        <p:grpSpPr>
          <a:xfrm>
            <a:off x="5410080" y="2819520"/>
            <a:ext cx="3429000" cy="2133360"/>
            <a:chOff x="5410080" y="2819520"/>
            <a:chExt cx="3429000" cy="2133360"/>
          </a:xfrm>
        </p:grpSpPr>
        <p:sp>
          <p:nvSpPr>
            <p:cNvPr id="307" name="AutoShape 30"/>
            <p:cNvSpPr/>
            <p:nvPr/>
          </p:nvSpPr>
          <p:spPr>
            <a:xfrm>
              <a:off x="5410080" y="2819520"/>
              <a:ext cx="3429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5662440" y="3236760"/>
              <a:ext cx="144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3"/>
            <p:cNvSpPr/>
            <p:nvPr/>
          </p:nvSpPr>
          <p:spPr>
            <a:xfrm>
              <a:off x="5662440" y="456084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8535600" y="3236760"/>
              <a:ext cx="180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662440" y="323676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 flipH="1">
              <a:off x="566208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566244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>
              <a:off x="5662440" y="4352760"/>
              <a:ext cx="2268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>
              <a:off x="5889240" y="4352760"/>
              <a:ext cx="1800" cy="208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>
              <a:off x="5864040" y="3236760"/>
              <a:ext cx="1440" cy="171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5662440" y="3408480"/>
              <a:ext cx="2016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2"/>
            <p:cNvSpPr/>
            <p:nvPr/>
          </p:nvSpPr>
          <p:spPr>
            <a:xfrm>
              <a:off x="8259480" y="3432240"/>
              <a:ext cx="27612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3"/>
            <p:cNvSpPr/>
            <p:nvPr/>
          </p:nvSpPr>
          <p:spPr>
            <a:xfrm>
              <a:off x="8321400" y="4400640"/>
              <a:ext cx="2142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4"/>
            <p:cNvSpPr/>
            <p:nvPr/>
          </p:nvSpPr>
          <p:spPr>
            <a:xfrm>
              <a:off x="8321400" y="4400640"/>
              <a:ext cx="1800" cy="1602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>
              <a:off x="8259480" y="3236760"/>
              <a:ext cx="1800" cy="195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6"/>
            <p:cNvSpPr/>
            <p:nvPr/>
          </p:nvSpPr>
          <p:spPr>
            <a:xfrm>
              <a:off x="7048080" y="3652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47"/>
            <p:cNvSpPr/>
            <p:nvPr/>
          </p:nvSpPr>
          <p:spPr>
            <a:xfrm>
              <a:off x="562392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48"/>
            <p:cNvSpPr/>
            <p:nvPr/>
          </p:nvSpPr>
          <p:spPr>
            <a:xfrm>
              <a:off x="8522280" y="4573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9"/>
            <p:cNvSpPr/>
            <p:nvPr/>
          </p:nvSpPr>
          <p:spPr>
            <a:xfrm>
              <a:off x="8522280" y="2990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50"/>
            <p:cNvSpPr/>
            <p:nvPr/>
          </p:nvSpPr>
          <p:spPr>
            <a:xfrm>
              <a:off x="5585760" y="2967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51"/>
          <p:cNvSpPr/>
          <p:nvPr/>
        </p:nvSpPr>
        <p:spPr>
          <a:xfrm>
            <a:off x="3049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2"/>
          <p:cNvSpPr/>
          <p:nvPr/>
        </p:nvSpPr>
        <p:spPr>
          <a:xfrm>
            <a:off x="304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onve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3"/>
          <p:cNvSpPr/>
          <p:nvPr/>
        </p:nvSpPr>
        <p:spPr>
          <a:xfrm>
            <a:off x="1905120" y="51973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agonals  of a parallelogram are congruent , then the parallelogram is a recta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69D5-39BC-4233-9A62-73E96DB0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perties of Rectang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7696080" y="35053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4"/>
          <p:cNvSpPr/>
          <p:nvPr/>
        </p:nvSpPr>
        <p:spPr>
          <a:xfrm flipH="1">
            <a:off x="632412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6400800" y="41148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7543440" y="4038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5410080" y="2819520"/>
            <a:ext cx="3429000" cy="2133360"/>
            <a:chOff x="5410080" y="2819520"/>
            <a:chExt cx="3429000" cy="2133360"/>
          </a:xfrm>
        </p:grpSpPr>
        <p:sp>
          <p:nvSpPr>
            <p:cNvPr id="338" name="AutoShape 30"/>
            <p:cNvSpPr/>
            <p:nvPr/>
          </p:nvSpPr>
          <p:spPr>
            <a:xfrm>
              <a:off x="5410080" y="2819520"/>
              <a:ext cx="3429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32"/>
            <p:cNvSpPr/>
            <p:nvPr/>
          </p:nvSpPr>
          <p:spPr>
            <a:xfrm>
              <a:off x="5662440" y="3236760"/>
              <a:ext cx="144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33"/>
            <p:cNvSpPr/>
            <p:nvPr/>
          </p:nvSpPr>
          <p:spPr>
            <a:xfrm>
              <a:off x="5662440" y="456084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34"/>
            <p:cNvSpPr/>
            <p:nvPr/>
          </p:nvSpPr>
          <p:spPr>
            <a:xfrm>
              <a:off x="8535600" y="3236760"/>
              <a:ext cx="1800" cy="1324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5"/>
            <p:cNvSpPr/>
            <p:nvPr/>
          </p:nvSpPr>
          <p:spPr>
            <a:xfrm>
              <a:off x="5662440" y="3236760"/>
              <a:ext cx="28731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6"/>
            <p:cNvSpPr/>
            <p:nvPr/>
          </p:nvSpPr>
          <p:spPr>
            <a:xfrm flipH="1">
              <a:off x="566208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7"/>
            <p:cNvSpPr/>
            <p:nvPr/>
          </p:nvSpPr>
          <p:spPr>
            <a:xfrm>
              <a:off x="5662440" y="3236760"/>
              <a:ext cx="2873160" cy="1324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8"/>
            <p:cNvSpPr/>
            <p:nvPr/>
          </p:nvSpPr>
          <p:spPr>
            <a:xfrm>
              <a:off x="5662440" y="4352760"/>
              <a:ext cx="2268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9"/>
            <p:cNvSpPr/>
            <p:nvPr/>
          </p:nvSpPr>
          <p:spPr>
            <a:xfrm>
              <a:off x="5889240" y="4352760"/>
              <a:ext cx="1800" cy="2080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40"/>
            <p:cNvSpPr/>
            <p:nvPr/>
          </p:nvSpPr>
          <p:spPr>
            <a:xfrm>
              <a:off x="5864040" y="3236760"/>
              <a:ext cx="1440" cy="171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1"/>
            <p:cNvSpPr/>
            <p:nvPr/>
          </p:nvSpPr>
          <p:spPr>
            <a:xfrm>
              <a:off x="5662440" y="3408480"/>
              <a:ext cx="2016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42"/>
            <p:cNvSpPr/>
            <p:nvPr/>
          </p:nvSpPr>
          <p:spPr>
            <a:xfrm>
              <a:off x="8259480" y="3432240"/>
              <a:ext cx="27612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3"/>
            <p:cNvSpPr/>
            <p:nvPr/>
          </p:nvSpPr>
          <p:spPr>
            <a:xfrm>
              <a:off x="8321400" y="4400640"/>
              <a:ext cx="2142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4"/>
            <p:cNvSpPr/>
            <p:nvPr/>
          </p:nvSpPr>
          <p:spPr>
            <a:xfrm>
              <a:off x="8321400" y="4400640"/>
              <a:ext cx="1800" cy="1602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45"/>
            <p:cNvSpPr/>
            <p:nvPr/>
          </p:nvSpPr>
          <p:spPr>
            <a:xfrm>
              <a:off x="8259480" y="3236760"/>
              <a:ext cx="1800" cy="195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6"/>
            <p:cNvSpPr/>
            <p:nvPr/>
          </p:nvSpPr>
          <p:spPr>
            <a:xfrm>
              <a:off x="7048080" y="3652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7"/>
            <p:cNvSpPr/>
            <p:nvPr/>
          </p:nvSpPr>
          <p:spPr>
            <a:xfrm>
              <a:off x="562392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8"/>
            <p:cNvSpPr/>
            <p:nvPr/>
          </p:nvSpPr>
          <p:spPr>
            <a:xfrm>
              <a:off x="8522280" y="4573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9"/>
            <p:cNvSpPr/>
            <p:nvPr/>
          </p:nvSpPr>
          <p:spPr>
            <a:xfrm>
              <a:off x="8522280" y="2990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0"/>
            <p:cNvSpPr/>
            <p:nvPr/>
          </p:nvSpPr>
          <p:spPr>
            <a:xfrm>
              <a:off x="5585760" y="2967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Rectangle 3"/>
          <p:cNvSpPr/>
          <p:nvPr/>
        </p:nvSpPr>
        <p:spPr>
          <a:xfrm>
            <a:off x="266760" y="2060640"/>
            <a:ext cx="8256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ogram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angles are right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onal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B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D,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D are isosceles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3: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AE78-E611-4811-ADF8-1DDEB6E3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……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04920" y="1676520"/>
            <a:ext cx="83818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E = 3x +2 and BE = 29, find the value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C = 21, then BE =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1 = 4x and m&lt;4 = 2x, find the value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2 = 40, find m&lt;1, m&lt;3, m&lt;4, m&lt;5 and m&lt;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81520" y="4419720"/>
            <a:ext cx="223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1=5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3=4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4=8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5=10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&lt;6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5053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.5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7816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9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67816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 = 18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2"/>
          <p:cNvGrpSpPr/>
          <p:nvPr/>
        </p:nvGrpSpPr>
        <p:grpSpPr>
          <a:xfrm>
            <a:off x="4419720" y="3733920"/>
            <a:ext cx="4343400" cy="2666880"/>
            <a:chOff x="4419720" y="3733920"/>
            <a:chExt cx="4343400" cy="2666880"/>
          </a:xfrm>
        </p:grpSpPr>
        <p:sp>
          <p:nvSpPr>
            <p:cNvPr id="368" name="AutoShape 11"/>
            <p:cNvSpPr/>
            <p:nvPr/>
          </p:nvSpPr>
          <p:spPr>
            <a:xfrm>
              <a:off x="4419720" y="3733920"/>
              <a:ext cx="43434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3"/>
            <p:cNvSpPr/>
            <p:nvPr/>
          </p:nvSpPr>
          <p:spPr>
            <a:xfrm>
              <a:off x="4737240" y="4254480"/>
              <a:ext cx="1800" cy="1655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>
              <a:off x="4737240" y="5910120"/>
              <a:ext cx="362736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>
              <a:off x="8364600" y="4254480"/>
              <a:ext cx="1800" cy="1655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6"/>
            <p:cNvSpPr/>
            <p:nvPr/>
          </p:nvSpPr>
          <p:spPr>
            <a:xfrm>
              <a:off x="4737240" y="4254480"/>
              <a:ext cx="3627360" cy="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 flipH="1">
              <a:off x="4737240" y="4254480"/>
              <a:ext cx="3627360" cy="1655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4737240" y="4254480"/>
              <a:ext cx="3627360" cy="1655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4737240" y="5649840"/>
              <a:ext cx="28728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>
              <a:off x="5024520" y="5649840"/>
              <a:ext cx="1800" cy="2602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1"/>
            <p:cNvSpPr/>
            <p:nvPr/>
          </p:nvSpPr>
          <p:spPr>
            <a:xfrm>
              <a:off x="4992840" y="4254480"/>
              <a:ext cx="1800" cy="2142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>
              <a:off x="4737240" y="4468680"/>
              <a:ext cx="25560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8015400" y="4500720"/>
              <a:ext cx="349200" cy="14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8094960" y="5711760"/>
              <a:ext cx="269640" cy="1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8094960" y="5711760"/>
              <a:ext cx="1440" cy="19836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6"/>
            <p:cNvSpPr/>
            <p:nvPr/>
          </p:nvSpPr>
          <p:spPr>
            <a:xfrm>
              <a:off x="8015400" y="4254480"/>
              <a:ext cx="1800" cy="2462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27"/>
            <p:cNvSpPr/>
            <p:nvPr/>
          </p:nvSpPr>
          <p:spPr>
            <a:xfrm>
              <a:off x="5294520" y="56498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>
              <a:off x="6504120" y="50976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9"/>
            <p:cNvSpPr/>
            <p:nvPr/>
          </p:nvSpPr>
          <p:spPr>
            <a:xfrm>
              <a:off x="6073920" y="4944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30"/>
            <p:cNvSpPr/>
            <p:nvPr/>
          </p:nvSpPr>
          <p:spPr>
            <a:xfrm>
              <a:off x="7714080" y="42544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31"/>
            <p:cNvSpPr/>
            <p:nvPr/>
          </p:nvSpPr>
          <p:spPr>
            <a:xfrm>
              <a:off x="5342040" y="42544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>
              <a:off x="4818240" y="4484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6488280" y="4776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89720" y="5910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>
              <a:off x="8348760" y="59259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36"/>
            <p:cNvSpPr/>
            <p:nvPr/>
          </p:nvSpPr>
          <p:spPr>
            <a:xfrm>
              <a:off x="8348760" y="3948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37"/>
            <p:cNvSpPr/>
            <p:nvPr/>
          </p:nvSpPr>
          <p:spPr>
            <a:xfrm>
              <a:off x="4642200" y="39178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60E-7872-46A4-90B8-D6B2AD87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057400" y="18288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Rhombi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BE1-2C88-4772-9854-CF663DE7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28600" y="18288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24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457200" y="3886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 rhombus is a parallelogram the following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880" y="42667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6172200" y="2438280"/>
            <a:ext cx="2209680" cy="1371600"/>
          </a:xfrm>
          <a:prstGeom prst="parallelogram">
            <a:avLst>
              <a:gd name="adj" fmla="val 4027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6705720" y="24382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6172200" y="2438280"/>
            <a:ext cx="22096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rc 13"/>
          <p:cNvSpPr/>
          <p:nvPr/>
        </p:nvSpPr>
        <p:spPr>
          <a:xfrm flipH="1" rot="10800000">
            <a:off x="6553080" y="2362320"/>
            <a:ext cx="533520" cy="4572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rc 14"/>
          <p:cNvSpPr/>
          <p:nvPr/>
        </p:nvSpPr>
        <p:spPr>
          <a:xfrm flipH="1" rot="238800">
            <a:off x="7609320" y="3505320"/>
            <a:ext cx="311400" cy="288720"/>
          </a:xfrm>
          <a:custGeom>
            <a:avLst/>
            <a:gdLst/>
            <a:ahLst/>
            <a:rect l="l" t="t" r="r" b="b"/>
            <a:pathLst>
              <a:path fill="none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</a:path>
              <a:path stroke="0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7"/>
          <p:cNvSpPr/>
          <p:nvPr/>
        </p:nvSpPr>
        <p:spPr>
          <a:xfrm>
            <a:off x="7543800" y="2286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9"/>
          <p:cNvSpPr/>
          <p:nvPr/>
        </p:nvSpPr>
        <p:spPr>
          <a:xfrm flipH="1" flipV="1">
            <a:off x="63241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1"/>
          <p:cNvSpPr/>
          <p:nvPr/>
        </p:nvSpPr>
        <p:spPr>
          <a:xfrm flipH="1" flipV="1">
            <a:off x="79243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rc 23"/>
          <p:cNvSpPr/>
          <p:nvPr/>
        </p:nvSpPr>
        <p:spPr>
          <a:xfrm flipH="1" flipV="1">
            <a:off x="8000280" y="243756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rc 24"/>
          <p:cNvSpPr/>
          <p:nvPr/>
        </p:nvSpPr>
        <p:spPr>
          <a:xfrm flipH="1" flipV="1">
            <a:off x="7848720" y="2437560"/>
            <a:ext cx="396720" cy="304920"/>
          </a:xfrm>
          <a:custGeom>
            <a:avLst/>
            <a:gdLst/>
            <a:ahLst/>
            <a:rect l="l" t="t" r="r" b="b"/>
            <a:pathLst>
              <a:path fill="none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</a:path>
              <a:path stroke="0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  <a:lnTo>
                  <a:pt x="6516" y="21600"/>
                </a:lnTo>
                <a:lnTo>
                  <a:pt x="0" y="100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rc 25"/>
          <p:cNvSpPr/>
          <p:nvPr/>
        </p:nvSpPr>
        <p:spPr>
          <a:xfrm>
            <a:off x="6248520" y="3583080"/>
            <a:ext cx="228600" cy="225360"/>
          </a:xfrm>
          <a:custGeom>
            <a:avLst/>
            <a:gdLst/>
            <a:ahLst/>
            <a:rect l="l" t="t" r="r" b="b"/>
            <a:pathLst>
              <a:path fill="none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</a:path>
              <a:path stroke="0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rc 26"/>
          <p:cNvSpPr/>
          <p:nvPr/>
        </p:nvSpPr>
        <p:spPr>
          <a:xfrm>
            <a:off x="6324480" y="3508200"/>
            <a:ext cx="228600" cy="378000"/>
          </a:xfrm>
          <a:custGeom>
            <a:avLst/>
            <a:gdLst/>
            <a:ahLst/>
            <a:rect l="l" t="t" r="r" b="b"/>
            <a:pathLst>
              <a:path fill="none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</a:path>
              <a:path stroke="0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 flipH="1">
            <a:off x="6933960" y="2743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29"/>
          <p:cNvSpPr/>
          <p:nvPr/>
        </p:nvSpPr>
        <p:spPr>
          <a:xfrm flipH="1">
            <a:off x="7314840" y="327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0"/>
          <p:cNvSpPr/>
          <p:nvPr/>
        </p:nvSpPr>
        <p:spPr>
          <a:xfrm flipH="1">
            <a:off x="739116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31"/>
          <p:cNvSpPr/>
          <p:nvPr/>
        </p:nvSpPr>
        <p:spPr>
          <a:xfrm flipH="1">
            <a:off x="6933960" y="28195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2"/>
          <p:cNvSpPr/>
          <p:nvPr/>
        </p:nvSpPr>
        <p:spPr>
          <a:xfrm rot="3477600">
            <a:off x="7444800" y="25362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3"/>
          <p:cNvSpPr/>
          <p:nvPr/>
        </p:nvSpPr>
        <p:spPr>
          <a:xfrm rot="3477600">
            <a:off x="6682680" y="2993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393840" y="29718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hombu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906480" y="342900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 since opposite sides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a Parallel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allelogram is named using all four ver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start from any one vertex, but you must continue in a clockwise or counterclockwise di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this can be either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CD or          ADC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762120" y="490392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124080" y="4952880"/>
            <a:ext cx="609840" cy="228600"/>
          </a:xfrm>
          <a:prstGeom prst="parallelogram">
            <a:avLst>
              <a:gd name="adj" fmla="val 6669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791320" y="4813200"/>
            <a:ext cx="3124080" cy="196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5208-A968-4815-8F99-CE990278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28600" y="18288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7524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ur small triangles are congruent, by S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6172200" y="2438280"/>
            <a:ext cx="2209680" cy="1371600"/>
          </a:xfrm>
          <a:prstGeom prst="parallelogram">
            <a:avLst>
              <a:gd name="adj" fmla="val 4027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6705720" y="24382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 flipH="1">
            <a:off x="6172200" y="2438280"/>
            <a:ext cx="22096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rc 13"/>
          <p:cNvSpPr/>
          <p:nvPr/>
        </p:nvSpPr>
        <p:spPr>
          <a:xfrm flipH="1" rot="10800000">
            <a:off x="6553080" y="2362320"/>
            <a:ext cx="533520" cy="4572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rc 14"/>
          <p:cNvSpPr/>
          <p:nvPr/>
        </p:nvSpPr>
        <p:spPr>
          <a:xfrm flipH="1" rot="238800">
            <a:off x="7609320" y="3505320"/>
            <a:ext cx="311400" cy="288720"/>
          </a:xfrm>
          <a:custGeom>
            <a:avLst/>
            <a:gdLst/>
            <a:ahLst/>
            <a:rect l="l" t="t" r="r" b="b"/>
            <a:pathLst>
              <a:path fill="none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</a:path>
              <a:path stroke="0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7543800" y="2286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 flipV="1">
            <a:off x="63241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21"/>
          <p:cNvSpPr/>
          <p:nvPr/>
        </p:nvSpPr>
        <p:spPr>
          <a:xfrm flipH="1" flipV="1">
            <a:off x="79243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rc 23"/>
          <p:cNvSpPr/>
          <p:nvPr/>
        </p:nvSpPr>
        <p:spPr>
          <a:xfrm flipH="1" flipV="1">
            <a:off x="8000280" y="243756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rc 24"/>
          <p:cNvSpPr/>
          <p:nvPr/>
        </p:nvSpPr>
        <p:spPr>
          <a:xfrm flipH="1" flipV="1">
            <a:off x="7848720" y="2437560"/>
            <a:ext cx="396720" cy="304920"/>
          </a:xfrm>
          <a:custGeom>
            <a:avLst/>
            <a:gdLst/>
            <a:ahLst/>
            <a:rect l="l" t="t" r="r" b="b"/>
            <a:pathLst>
              <a:path fill="none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</a:path>
              <a:path stroke="0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  <a:lnTo>
                  <a:pt x="6516" y="21600"/>
                </a:lnTo>
                <a:lnTo>
                  <a:pt x="0" y="100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rc 25"/>
          <p:cNvSpPr/>
          <p:nvPr/>
        </p:nvSpPr>
        <p:spPr>
          <a:xfrm>
            <a:off x="6248520" y="3583080"/>
            <a:ext cx="228600" cy="225360"/>
          </a:xfrm>
          <a:custGeom>
            <a:avLst/>
            <a:gdLst/>
            <a:ahLst/>
            <a:rect l="l" t="t" r="r" b="b"/>
            <a:pathLst>
              <a:path fill="none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</a:path>
              <a:path stroke="0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rc 26"/>
          <p:cNvSpPr/>
          <p:nvPr/>
        </p:nvSpPr>
        <p:spPr>
          <a:xfrm>
            <a:off x="6324480" y="3508200"/>
            <a:ext cx="228600" cy="378000"/>
          </a:xfrm>
          <a:custGeom>
            <a:avLst/>
            <a:gdLst/>
            <a:ahLst/>
            <a:rect l="l" t="t" r="r" b="b"/>
            <a:pathLst>
              <a:path fill="none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</a:path>
              <a:path stroke="0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7"/>
          <p:cNvSpPr/>
          <p:nvPr/>
        </p:nvSpPr>
        <p:spPr>
          <a:xfrm flipH="1">
            <a:off x="6933960" y="2743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9"/>
          <p:cNvSpPr/>
          <p:nvPr/>
        </p:nvSpPr>
        <p:spPr>
          <a:xfrm flipH="1">
            <a:off x="7314840" y="327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0"/>
          <p:cNvSpPr/>
          <p:nvPr/>
        </p:nvSpPr>
        <p:spPr>
          <a:xfrm flipH="1">
            <a:off x="739116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1"/>
          <p:cNvSpPr/>
          <p:nvPr/>
        </p:nvSpPr>
        <p:spPr>
          <a:xfrm flipH="1">
            <a:off x="6933960" y="28195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2"/>
          <p:cNvSpPr/>
          <p:nvPr/>
        </p:nvSpPr>
        <p:spPr>
          <a:xfrm rot="3477600">
            <a:off x="7444800" y="25362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3"/>
          <p:cNvSpPr/>
          <p:nvPr/>
        </p:nvSpPr>
        <p:spPr>
          <a:xfrm rot="3477600">
            <a:off x="6682680" y="2993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406440" y="2400480"/>
            <a:ext cx="44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he diagonals form four angles that are congruent, and must measure 90 degrees e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693720" y="388620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 the diagonals 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44600" y="4495680"/>
            <a:ext cx="44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so means the diagonals bisect each of the four angles of the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32"/>
          <p:cNvSpPr/>
          <p:nvPr/>
        </p:nvSpPr>
        <p:spPr>
          <a:xfrm>
            <a:off x="698040" y="569592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 the diagonals bisect opposite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B09-1CD8-448D-A1E5-5A0D5963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perties of a 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15"/>
          <p:cNvSpPr/>
          <p:nvPr/>
        </p:nvSpPr>
        <p:spPr>
          <a:xfrm flipH="1">
            <a:off x="7086240" y="30481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 flipV="1">
            <a:off x="7314840" y="30477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rc 18"/>
          <p:cNvSpPr/>
          <p:nvPr/>
        </p:nvSpPr>
        <p:spPr>
          <a:xfrm>
            <a:off x="6324480" y="3733920"/>
            <a:ext cx="22860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rc 19"/>
          <p:cNvSpPr/>
          <p:nvPr/>
        </p:nvSpPr>
        <p:spPr>
          <a:xfrm>
            <a:off x="6400800" y="3962520"/>
            <a:ext cx="30492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rc 21"/>
          <p:cNvSpPr/>
          <p:nvPr/>
        </p:nvSpPr>
        <p:spPr>
          <a:xfrm flipH="1">
            <a:off x="7543080" y="3887640"/>
            <a:ext cx="152280" cy="233640"/>
          </a:xfrm>
          <a:custGeom>
            <a:avLst/>
            <a:gdLst/>
            <a:ahLst/>
            <a:rect l="l" t="t" r="r" b="b"/>
            <a:pathLst>
              <a:path fill="none" w="21600" h="33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702"/>
                  <a:pt x="20431" y="29721"/>
                  <a:pt x="18231" y="33184"/>
                </a:cubicBezTo>
              </a:path>
              <a:path stroke="0" w="21600" h="3318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702"/>
                  <a:pt x="20431" y="29721"/>
                  <a:pt x="18231" y="3318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rc 22"/>
          <p:cNvSpPr/>
          <p:nvPr/>
        </p:nvSpPr>
        <p:spPr>
          <a:xfrm flipH="1">
            <a:off x="7619400" y="3809880"/>
            <a:ext cx="363240" cy="76320"/>
          </a:xfrm>
          <a:custGeom>
            <a:avLst/>
            <a:gdLst/>
            <a:ahLst/>
            <a:rect l="l" t="t" r="r" b="b"/>
            <a:pathLst>
              <a:path fill="none" w="34373" h="21600">
                <a:moveTo>
                  <a:pt x="-1" y="4181"/>
                </a:moveTo>
                <a:cubicBezTo>
                  <a:pt x="3704" y="1464"/>
                  <a:pt x="8178" y="-1"/>
                  <a:pt x="12773" y="0"/>
                </a:cubicBezTo>
                <a:cubicBezTo>
                  <a:pt x="24702" y="0"/>
                  <a:pt x="34373" y="9670"/>
                  <a:pt x="34373" y="21600"/>
                </a:cubicBezTo>
              </a:path>
              <a:path stroke="0" w="34373" h="21600">
                <a:moveTo>
                  <a:pt x="-1" y="4181"/>
                </a:moveTo>
                <a:cubicBezTo>
                  <a:pt x="3704" y="1464"/>
                  <a:pt x="8178" y="-1"/>
                  <a:pt x="12773" y="0"/>
                </a:cubicBezTo>
                <a:cubicBezTo>
                  <a:pt x="24702" y="0"/>
                  <a:pt x="34373" y="9670"/>
                  <a:pt x="34373" y="21600"/>
                </a:cubicBezTo>
                <a:lnTo>
                  <a:pt x="12773" y="21600"/>
                </a:lnTo>
                <a:lnTo>
                  <a:pt x="-1" y="418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rc 23"/>
          <p:cNvSpPr/>
          <p:nvPr/>
        </p:nvSpPr>
        <p:spPr>
          <a:xfrm flipH="1" rot="10800000">
            <a:off x="6781680" y="2590920"/>
            <a:ext cx="152640" cy="304560"/>
          </a:xfrm>
          <a:custGeom>
            <a:avLst/>
            <a:gdLst/>
            <a:ahLst/>
            <a:rect l="l" t="t" r="r" b="b"/>
            <a:pathLst>
              <a:path fill="none" w="21566" h="21600">
                <a:moveTo>
                  <a:pt x="-1" y="0"/>
                </a:moveTo>
                <a:cubicBezTo>
                  <a:pt x="11458" y="0"/>
                  <a:pt x="20922" y="8946"/>
                  <a:pt x="21565" y="20387"/>
                </a:cubicBezTo>
              </a:path>
              <a:path stroke="0" w="21566" h="21600">
                <a:moveTo>
                  <a:pt x="-1" y="0"/>
                </a:moveTo>
                <a:cubicBezTo>
                  <a:pt x="11458" y="0"/>
                  <a:pt x="20922" y="8946"/>
                  <a:pt x="21565" y="203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rc 24"/>
          <p:cNvSpPr/>
          <p:nvPr/>
        </p:nvSpPr>
        <p:spPr>
          <a:xfrm flipH="1" rot="10800000">
            <a:off x="6477120" y="2819160"/>
            <a:ext cx="304560" cy="2286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rc 26"/>
          <p:cNvSpPr/>
          <p:nvPr/>
        </p:nvSpPr>
        <p:spPr>
          <a:xfrm flipH="1" flipV="1">
            <a:off x="7848720" y="28947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rc 28"/>
          <p:cNvSpPr/>
          <p:nvPr/>
        </p:nvSpPr>
        <p:spPr>
          <a:xfrm flipV="1" rot="5400000">
            <a:off x="7893720" y="2545560"/>
            <a:ext cx="214560" cy="457200"/>
          </a:xfrm>
          <a:custGeom>
            <a:avLst/>
            <a:gdLst/>
            <a:ahLst/>
            <a:rect l="l" t="t" r="r" b="b"/>
            <a:pathLst>
              <a:path fill="none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</a:path>
              <a:path stroke="0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rc 29"/>
          <p:cNvSpPr/>
          <p:nvPr/>
        </p:nvSpPr>
        <p:spPr>
          <a:xfrm flipV="1" rot="5400000">
            <a:off x="7741440" y="2545560"/>
            <a:ext cx="214560" cy="457200"/>
          </a:xfrm>
          <a:custGeom>
            <a:avLst/>
            <a:gdLst/>
            <a:ahLst/>
            <a:rect l="l" t="t" r="r" b="b"/>
            <a:pathLst>
              <a:path fill="none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</a:path>
              <a:path stroke="0" w="20234" h="21600">
                <a:moveTo>
                  <a:pt x="-1" y="0"/>
                </a:moveTo>
                <a:cubicBezTo>
                  <a:pt x="9013" y="0"/>
                  <a:pt x="17078" y="5596"/>
                  <a:pt x="20233" y="14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rc 30"/>
          <p:cNvSpPr/>
          <p:nvPr/>
        </p:nvSpPr>
        <p:spPr>
          <a:xfrm flipH="1" flipV="1">
            <a:off x="8000280" y="2817000"/>
            <a:ext cx="304920" cy="220680"/>
          </a:xfrm>
          <a:custGeom>
            <a:avLst/>
            <a:gdLst/>
            <a:ahLst/>
            <a:rect l="l" t="t" r="r" b="b"/>
            <a:pathLst>
              <a:path fill="none" w="21600" h="20849">
                <a:moveTo>
                  <a:pt x="5646" y="0"/>
                </a:moveTo>
                <a:cubicBezTo>
                  <a:pt x="15062" y="2550"/>
                  <a:pt x="21600" y="11094"/>
                  <a:pt x="21600" y="20849"/>
                </a:cubicBezTo>
              </a:path>
              <a:path stroke="0" w="21600" h="20849">
                <a:moveTo>
                  <a:pt x="5646" y="0"/>
                </a:moveTo>
                <a:cubicBezTo>
                  <a:pt x="15062" y="2550"/>
                  <a:pt x="21600" y="11094"/>
                  <a:pt x="21600" y="20849"/>
                </a:cubicBezTo>
                <a:lnTo>
                  <a:pt x="0" y="20849"/>
                </a:lnTo>
                <a:lnTo>
                  <a:pt x="5646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rc 31"/>
          <p:cNvSpPr/>
          <p:nvPr/>
        </p:nvSpPr>
        <p:spPr>
          <a:xfrm>
            <a:off x="6553080" y="3886200"/>
            <a:ext cx="228600" cy="212760"/>
          </a:xfrm>
          <a:custGeom>
            <a:avLst/>
            <a:gdLst/>
            <a:ahLst/>
            <a:rect l="l" t="t" r="r" b="b"/>
            <a:pathLst>
              <a:path fill="none" w="21600" h="3006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508"/>
                  <a:pt x="21012" y="27387"/>
                  <a:pt x="19872" y="30063"/>
                </a:cubicBezTo>
              </a:path>
              <a:path stroke="0" w="21600" h="3006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508"/>
                  <a:pt x="21012" y="27387"/>
                  <a:pt x="19872" y="300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rc 33"/>
          <p:cNvSpPr/>
          <p:nvPr/>
        </p:nvSpPr>
        <p:spPr>
          <a:xfrm>
            <a:off x="6248520" y="3809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3049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1752480" y="1752480"/>
            <a:ext cx="64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agonals of a rhombus 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2286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8"/>
          <p:cNvSpPr/>
          <p:nvPr/>
        </p:nvSpPr>
        <p:spPr>
          <a:xfrm>
            <a:off x="1828800" y="4495680"/>
            <a:ext cx="685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iagonal of a rhombus bisects a pair of opposite 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0"/>
          <p:cNvGrpSpPr/>
          <p:nvPr/>
        </p:nvGrpSpPr>
        <p:grpSpPr>
          <a:xfrm>
            <a:off x="6019920" y="2438280"/>
            <a:ext cx="2476440" cy="1905120"/>
            <a:chOff x="6019920" y="2438280"/>
            <a:chExt cx="2476440" cy="1905120"/>
          </a:xfrm>
        </p:grpSpPr>
        <p:sp>
          <p:nvSpPr>
            <p:cNvPr id="478" name="AutoShape 39"/>
            <p:cNvSpPr/>
            <p:nvPr/>
          </p:nvSpPr>
          <p:spPr>
            <a:xfrm>
              <a:off x="6019920" y="2438280"/>
              <a:ext cx="24764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41"/>
            <p:cNvSpPr/>
            <p:nvPr/>
          </p:nvSpPr>
          <p:spPr>
            <a:xfrm>
              <a:off x="6572160" y="2631960"/>
              <a:ext cx="1734840" cy="1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42"/>
            <p:cNvSpPr/>
            <p:nvPr/>
          </p:nvSpPr>
          <p:spPr>
            <a:xfrm flipH="1">
              <a:off x="7943400" y="2631960"/>
              <a:ext cx="363240" cy="1503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43"/>
            <p:cNvSpPr/>
            <p:nvPr/>
          </p:nvSpPr>
          <p:spPr>
            <a:xfrm>
              <a:off x="6194160" y="4135320"/>
              <a:ext cx="1749240" cy="18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44"/>
            <p:cNvSpPr/>
            <p:nvPr/>
          </p:nvSpPr>
          <p:spPr>
            <a:xfrm flipH="1">
              <a:off x="6193800" y="2631960"/>
              <a:ext cx="377640" cy="15033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45"/>
            <p:cNvSpPr/>
            <p:nvPr/>
          </p:nvSpPr>
          <p:spPr>
            <a:xfrm flipH="1">
              <a:off x="6193800" y="2631960"/>
              <a:ext cx="2112840" cy="1503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46"/>
            <p:cNvSpPr/>
            <p:nvPr/>
          </p:nvSpPr>
          <p:spPr>
            <a:xfrm>
              <a:off x="6572160" y="2631960"/>
              <a:ext cx="1371240" cy="1503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47"/>
            <p:cNvSpPr/>
            <p:nvPr/>
          </p:nvSpPr>
          <p:spPr>
            <a:xfrm>
              <a:off x="6545160" y="2602080"/>
              <a:ext cx="6624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48"/>
            <p:cNvSpPr/>
            <p:nvPr/>
          </p:nvSpPr>
          <p:spPr>
            <a:xfrm>
              <a:off x="8280360" y="2602080"/>
              <a:ext cx="6768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Oval 49"/>
            <p:cNvSpPr/>
            <p:nvPr/>
          </p:nvSpPr>
          <p:spPr>
            <a:xfrm>
              <a:off x="7916760" y="4105440"/>
              <a:ext cx="6804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50"/>
            <p:cNvSpPr/>
            <p:nvPr/>
          </p:nvSpPr>
          <p:spPr>
            <a:xfrm>
              <a:off x="6167160" y="4105440"/>
              <a:ext cx="6804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Text Box 36"/>
          <p:cNvSpPr/>
          <p:nvPr/>
        </p:nvSpPr>
        <p:spPr>
          <a:xfrm>
            <a:off x="31896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8"/>
          <p:cNvSpPr/>
          <p:nvPr/>
        </p:nvSpPr>
        <p:spPr>
          <a:xfrm>
            <a:off x="1752480" y="57150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triangles are RIGHT and CONGRU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46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48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2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4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6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68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0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4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6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78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0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2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9026-7C09-4C4F-9C31-0F6F7365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perties of a Rhomb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1752480" y="1828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5796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 rhombus is a parallelogram the following ar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ur sides are congru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onals are perpendi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onals bisect opposite ang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rememb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triangles are RIGHT and CONGRUEN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6172200" y="2438280"/>
            <a:ext cx="2209680" cy="1371600"/>
          </a:xfrm>
          <a:prstGeom prst="parallelogram">
            <a:avLst>
              <a:gd name="adj" fmla="val 4027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6705720" y="24382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6172200" y="2438280"/>
            <a:ext cx="22096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rc 13"/>
          <p:cNvSpPr/>
          <p:nvPr/>
        </p:nvSpPr>
        <p:spPr>
          <a:xfrm flipH="1" rot="10800000">
            <a:off x="6553080" y="2362320"/>
            <a:ext cx="533520" cy="457200"/>
          </a:xfrm>
          <a:custGeom>
            <a:avLst/>
            <a:gdLst/>
            <a:ahLst/>
            <a:rect l="l" t="t" r="r" b="b"/>
            <a:pathLst>
              <a:path fill="none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</a:path>
              <a:path stroke="0" w="21181" h="21600">
                <a:moveTo>
                  <a:pt x="-1" y="0"/>
                </a:moveTo>
                <a:cubicBezTo>
                  <a:pt x="10296" y="0"/>
                  <a:pt x="19161" y="7267"/>
                  <a:pt x="21180" y="1736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rc 14"/>
          <p:cNvSpPr/>
          <p:nvPr/>
        </p:nvSpPr>
        <p:spPr>
          <a:xfrm flipH="1" rot="238800">
            <a:off x="7609320" y="3505320"/>
            <a:ext cx="311400" cy="288720"/>
          </a:xfrm>
          <a:custGeom>
            <a:avLst/>
            <a:gdLst/>
            <a:ahLst/>
            <a:rect l="l" t="t" r="r" b="b"/>
            <a:pathLst>
              <a:path fill="none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</a:path>
              <a:path stroke="0" w="21600" h="2727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17"/>
                  <a:pt x="21344" y="25426"/>
                  <a:pt x="20840" y="2727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7"/>
          <p:cNvSpPr/>
          <p:nvPr/>
        </p:nvSpPr>
        <p:spPr>
          <a:xfrm>
            <a:off x="7543800" y="22860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9"/>
          <p:cNvSpPr/>
          <p:nvPr/>
        </p:nvSpPr>
        <p:spPr>
          <a:xfrm flipH="1" flipV="1">
            <a:off x="63241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1"/>
          <p:cNvSpPr/>
          <p:nvPr/>
        </p:nvSpPr>
        <p:spPr>
          <a:xfrm flipH="1" flipV="1">
            <a:off x="7924320" y="3047760"/>
            <a:ext cx="304920" cy="759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rc 23"/>
          <p:cNvSpPr/>
          <p:nvPr/>
        </p:nvSpPr>
        <p:spPr>
          <a:xfrm flipH="1" flipV="1">
            <a:off x="8000280" y="243756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rc 24"/>
          <p:cNvSpPr/>
          <p:nvPr/>
        </p:nvSpPr>
        <p:spPr>
          <a:xfrm flipH="1" flipV="1">
            <a:off x="7848720" y="2437560"/>
            <a:ext cx="396720" cy="304920"/>
          </a:xfrm>
          <a:custGeom>
            <a:avLst/>
            <a:gdLst/>
            <a:ahLst/>
            <a:rect l="l" t="t" r="r" b="b"/>
            <a:pathLst>
              <a:path fill="none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</a:path>
              <a:path stroke="0" w="28116" h="21600">
                <a:moveTo>
                  <a:pt x="0" y="1006"/>
                </a:moveTo>
                <a:cubicBezTo>
                  <a:pt x="2107" y="339"/>
                  <a:pt x="4305" y="-1"/>
                  <a:pt x="6516" y="0"/>
                </a:cubicBezTo>
                <a:cubicBezTo>
                  <a:pt x="18445" y="0"/>
                  <a:pt x="28116" y="9670"/>
                  <a:pt x="28116" y="21600"/>
                </a:cubicBezTo>
                <a:lnTo>
                  <a:pt x="6516" y="21600"/>
                </a:lnTo>
                <a:lnTo>
                  <a:pt x="0" y="100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rc 25"/>
          <p:cNvSpPr/>
          <p:nvPr/>
        </p:nvSpPr>
        <p:spPr>
          <a:xfrm>
            <a:off x="6248520" y="3583080"/>
            <a:ext cx="228600" cy="225360"/>
          </a:xfrm>
          <a:custGeom>
            <a:avLst/>
            <a:gdLst/>
            <a:ahLst/>
            <a:rect l="l" t="t" r="r" b="b"/>
            <a:pathLst>
              <a:path fill="none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</a:path>
              <a:path stroke="0" w="21600" h="3204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1"/>
                  <a:pt x="20674" y="28843"/>
                  <a:pt x="18909" y="320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rc 26"/>
          <p:cNvSpPr/>
          <p:nvPr/>
        </p:nvSpPr>
        <p:spPr>
          <a:xfrm>
            <a:off x="6324480" y="3508200"/>
            <a:ext cx="228600" cy="378000"/>
          </a:xfrm>
          <a:custGeom>
            <a:avLst/>
            <a:gdLst/>
            <a:ahLst/>
            <a:rect l="l" t="t" r="r" b="b"/>
            <a:pathLst>
              <a:path fill="none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</a:path>
              <a:path stroke="0" w="21600" h="3773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762"/>
                  <a:pt x="18967" y="33632"/>
                  <a:pt x="14364" y="3773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7"/>
          <p:cNvSpPr/>
          <p:nvPr/>
        </p:nvSpPr>
        <p:spPr>
          <a:xfrm flipH="1">
            <a:off x="6933960" y="2743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9"/>
          <p:cNvSpPr/>
          <p:nvPr/>
        </p:nvSpPr>
        <p:spPr>
          <a:xfrm flipH="1">
            <a:off x="7314840" y="3276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30"/>
          <p:cNvSpPr/>
          <p:nvPr/>
        </p:nvSpPr>
        <p:spPr>
          <a:xfrm flipH="1">
            <a:off x="739116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31"/>
          <p:cNvSpPr/>
          <p:nvPr/>
        </p:nvSpPr>
        <p:spPr>
          <a:xfrm flipH="1">
            <a:off x="6933960" y="28195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2"/>
          <p:cNvSpPr/>
          <p:nvPr/>
        </p:nvSpPr>
        <p:spPr>
          <a:xfrm rot="3477600">
            <a:off x="7444800" y="25362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3"/>
          <p:cNvSpPr/>
          <p:nvPr/>
        </p:nvSpPr>
        <p:spPr>
          <a:xfrm rot="3477600">
            <a:off x="6682680" y="29934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0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F43-DEB8-40AA-824E-5FAB98CC6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hombus Examples ..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ABCD is a rhombus.  Complete the foll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 = 9, then AD = 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1 = 65, the m&lt;2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3 = 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ADC = 80, the m&lt;DAB = 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&lt;1 = 3x -7 and m&lt;2 = 2x +3, then x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7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162240" cy="28954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0"/>
          <p:cNvSpPr/>
          <p:nvPr/>
        </p:nvSpPr>
        <p:spPr>
          <a:xfrm>
            <a:off x="365760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39625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5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9810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50292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6248520" y="533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10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10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10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10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939-1886-44E0-9C6D-E73A4138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5800" y="142920"/>
            <a:ext cx="769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84200" y="2523600"/>
            <a:ext cx="6324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osite sides are parall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osite sides are congru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osite angles are congru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angles are supplement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bisect each 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u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right ang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 congruent sid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are congru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are perpendicu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agonals bisect opposite ang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57200" y="8683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838160" y="91440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quare is a quadrilateral with four congruent angles and four congruent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228600" y="184788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every square i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arallel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well as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has all the properties of these quadrilat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6781680" y="3505320"/>
            <a:ext cx="167652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6781680" y="350532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 flipH="1">
            <a:off x="6781320" y="350532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4: Rhombus &amp;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5DB8-146A-470C-8440-BC8F6CE2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quares – Examples…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: ABCD is a square.  Complete the follow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 = 10, then AD = _____  and DC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E = 5, then DE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ABC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ACD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-438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lt;AED = 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414520" cy="2590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7"/>
          <p:cNvSpPr/>
          <p:nvPr/>
        </p:nvSpPr>
        <p:spPr>
          <a:xfrm>
            <a:off x="380988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60199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6576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5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243828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243828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25146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10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1000" fill="hold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nodeType="clickEffect" fill="hold">
                      <p:stCondLst>
                        <p:cond delay="indefinite"/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385-C277-4C0E-8D3E-9AFDD6BC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2120" y="550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rt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71200" y="2112480"/>
            <a:ext cx="76770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rapezoids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d Kit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5AF-1650-4C1E-9A86-C4B5EF1E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944720" y="183996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drilateral with exactly one pair of parallel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276120" y="184320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990960" y="2981160"/>
            <a:ext cx="85572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554200" y="3954600"/>
            <a:ext cx="71136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34"/>
          <p:cNvSpPr/>
          <p:nvPr/>
        </p:nvSpPr>
        <p:spPr>
          <a:xfrm>
            <a:off x="3468600" y="36687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35"/>
          <p:cNvSpPr/>
          <p:nvPr/>
        </p:nvSpPr>
        <p:spPr>
          <a:xfrm>
            <a:off x="3497400" y="3668760"/>
            <a:ext cx="0" cy="10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6"/>
          <p:cNvSpPr/>
          <p:nvPr/>
        </p:nvSpPr>
        <p:spPr>
          <a:xfrm>
            <a:off x="3525840" y="4686480"/>
            <a:ext cx="132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37"/>
          <p:cNvSpPr/>
          <p:nvPr/>
        </p:nvSpPr>
        <p:spPr>
          <a:xfrm flipV="1">
            <a:off x="4818240" y="3668400"/>
            <a:ext cx="650520" cy="102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38"/>
          <p:cNvSpPr/>
          <p:nvPr/>
        </p:nvSpPr>
        <p:spPr>
          <a:xfrm>
            <a:off x="4245120" y="366876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39"/>
          <p:cNvSpPr/>
          <p:nvPr/>
        </p:nvSpPr>
        <p:spPr>
          <a:xfrm>
            <a:off x="3995640" y="466092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1"/>
          <p:cNvSpPr/>
          <p:nvPr/>
        </p:nvSpPr>
        <p:spPr>
          <a:xfrm>
            <a:off x="3567240" y="386856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3"/>
          <p:cNvSpPr/>
          <p:nvPr/>
        </p:nvSpPr>
        <p:spPr>
          <a:xfrm>
            <a:off x="247680" y="2265480"/>
            <a:ext cx="86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llel sid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non-parallel sides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5421240" y="3970440"/>
            <a:ext cx="71136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3740040" y="4834080"/>
            <a:ext cx="855720" cy="459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A13-D301-4CBD-BA17-CF3A68A5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6134040" y="4278240"/>
            <a:ext cx="2416320" cy="1486080"/>
          </a:xfrm>
          <a:custGeom>
            <a:avLst/>
            <a:gdLst>
              <a:gd name="textAreaLeft" fmla="*/ 503280 w 2416320"/>
              <a:gd name="textAreaRight" fmla="*/ 1913040 w 2416320"/>
              <a:gd name="textAreaTop" fmla="*/ 309600 h 1486080"/>
              <a:gd name="textAreaBottom" fmla="*/ 1176480 h 14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3"/>
          <p:cNvSpPr/>
          <p:nvPr/>
        </p:nvSpPr>
        <p:spPr>
          <a:xfrm flipV="1">
            <a:off x="6446880" y="5006880"/>
            <a:ext cx="1827000" cy="158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284040" y="1825560"/>
            <a:ext cx="86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trapezoid is the segment that joins the midpoints of the legs. (It is sometime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se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8218440" y="4667400"/>
            <a:ext cx="28116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7929720" y="5373720"/>
            <a:ext cx="28080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8"/>
          <p:cNvSpPr/>
          <p:nvPr/>
        </p:nvSpPr>
        <p:spPr>
          <a:xfrm flipV="1">
            <a:off x="6451560" y="5303520"/>
            <a:ext cx="28116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9"/>
          <p:cNvSpPr/>
          <p:nvPr/>
        </p:nvSpPr>
        <p:spPr>
          <a:xfrm flipV="1">
            <a:off x="6205680" y="4784400"/>
            <a:ext cx="28080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0"/>
          <p:cNvSpPr/>
          <p:nvPr/>
        </p:nvSpPr>
        <p:spPr>
          <a:xfrm flipV="1">
            <a:off x="6491160" y="5445000"/>
            <a:ext cx="281160" cy="7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 flipV="1">
            <a:off x="6157800" y="4636800"/>
            <a:ext cx="281160" cy="7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260280" y="2771640"/>
            <a:ext cx="8564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median of a trapezoid is parallel to the b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 length of the median is one-half the sum of the lengths of the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6864480" y="44719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Object 14"/>
          <p:cNvGraphicFramePr/>
          <p:nvPr/>
        </p:nvGraphicFramePr>
        <p:xfrm>
          <a:off x="7218360" y="3662280"/>
          <a:ext cx="3999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18360" y="3662280"/>
                    <a:ext cx="399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15"/>
          <p:cNvGraphicFramePr/>
          <p:nvPr/>
        </p:nvGraphicFramePr>
        <p:xfrm>
          <a:off x="7223040" y="5737320"/>
          <a:ext cx="44784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23040" y="5737320"/>
                    <a:ext cx="447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Line 16"/>
          <p:cNvSpPr/>
          <p:nvPr/>
        </p:nvSpPr>
        <p:spPr>
          <a:xfrm>
            <a:off x="7102440" y="427356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7"/>
          <p:cNvSpPr/>
          <p:nvPr/>
        </p:nvSpPr>
        <p:spPr>
          <a:xfrm>
            <a:off x="7248600" y="4997520"/>
            <a:ext cx="3045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8"/>
          <p:cNvSpPr/>
          <p:nvPr/>
        </p:nvSpPr>
        <p:spPr>
          <a:xfrm>
            <a:off x="7219800" y="5724360"/>
            <a:ext cx="3049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Object 19"/>
          <p:cNvGraphicFramePr/>
          <p:nvPr/>
        </p:nvGraphicFramePr>
        <p:xfrm>
          <a:off x="1025640" y="4471920"/>
          <a:ext cx="41878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5640" y="4471920"/>
                    <a:ext cx="4187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Text Box 20"/>
          <p:cNvSpPr/>
          <p:nvPr/>
        </p:nvSpPr>
        <p:spPr>
          <a:xfrm>
            <a:off x="1262160" y="550800"/>
            <a:ext cx="71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dian of a Trapezo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E48A-71D5-4E43-9A20-B76BA1C6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sceles Trapezo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3"/>
          <p:cNvSpPr/>
          <p:nvPr/>
        </p:nvSpPr>
        <p:spPr>
          <a:xfrm>
            <a:off x="3214800" y="3016080"/>
            <a:ext cx="2685960" cy="1121040"/>
          </a:xfrm>
          <a:custGeom>
            <a:avLst/>
            <a:gdLst>
              <a:gd name="textAreaLeft" fmla="*/ 574560 w 2685960"/>
              <a:gd name="textAreaRight" fmla="*/ 2111400 w 2685960"/>
              <a:gd name="textAreaTop" fmla="*/ 239760 h 1121040"/>
              <a:gd name="textAreaBottom" fmla="*/ 8812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41" y="21600"/>
                </a:lnTo>
                <a:lnTo>
                  <a:pt x="1595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944720" y="183996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10"/>
          <p:cNvGrpSpPr/>
          <p:nvPr/>
        </p:nvGrpSpPr>
        <p:grpSpPr>
          <a:xfrm>
            <a:off x="4494240" y="3000240"/>
            <a:ext cx="187200" cy="1092240"/>
            <a:chOff x="4494240" y="3000240"/>
            <a:chExt cx="187200" cy="1092240"/>
          </a:xfrm>
        </p:grpSpPr>
        <p:sp>
          <p:nvSpPr>
            <p:cNvPr id="598" name="Line 5"/>
            <p:cNvSpPr/>
            <p:nvPr/>
          </p:nvSpPr>
          <p:spPr>
            <a:xfrm>
              <a:off x="4494240" y="4092480"/>
              <a:ext cx="18720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6"/>
            <p:cNvSpPr/>
            <p:nvPr/>
          </p:nvSpPr>
          <p:spPr>
            <a:xfrm>
              <a:off x="4494240" y="3000240"/>
              <a:ext cx="18720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Text Box 11"/>
          <p:cNvSpPr/>
          <p:nvPr/>
        </p:nvSpPr>
        <p:spPr>
          <a:xfrm>
            <a:off x="276120" y="184320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5"/>
          <p:cNvSpPr/>
          <p:nvPr/>
        </p:nvSpPr>
        <p:spPr>
          <a:xfrm flipH="1">
            <a:off x="3330720" y="343836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6"/>
          <p:cNvSpPr/>
          <p:nvPr/>
        </p:nvSpPr>
        <p:spPr>
          <a:xfrm flipH="1" flipV="1">
            <a:off x="5339880" y="3444480"/>
            <a:ext cx="381240" cy="152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4"/>
          <p:cNvSpPr/>
          <p:nvPr/>
        </p:nvSpPr>
        <p:spPr>
          <a:xfrm>
            <a:off x="3948120" y="316872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sceles trapez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four basic properties of all parallel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properties have to do with the angles, the sides and the diag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F0E6-6736-4A32-8FD2-9F6F6F7E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erties of Isosceles Trapezo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7" name="Object 26"/>
          <p:cNvGraphicFramePr/>
          <p:nvPr/>
        </p:nvGraphicFramePr>
        <p:xfrm>
          <a:off x="2003400" y="2338560"/>
          <a:ext cx="41068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3400" y="2338560"/>
                    <a:ext cx="410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5"/>
          <p:cNvSpPr/>
          <p:nvPr/>
        </p:nvSpPr>
        <p:spPr>
          <a:xfrm>
            <a:off x="260280" y="3333600"/>
            <a:ext cx="78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189000" y="187488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Both pairs of base angles of an isosceles trapezoid are congru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7"/>
          <p:cNvSpPr/>
          <p:nvPr/>
        </p:nvSpPr>
        <p:spPr>
          <a:xfrm>
            <a:off x="5769000" y="4595760"/>
            <a:ext cx="2685960" cy="1120680"/>
          </a:xfrm>
          <a:custGeom>
            <a:avLst/>
            <a:gdLst>
              <a:gd name="textAreaLeft" fmla="*/ 574560 w 2685960"/>
              <a:gd name="textAreaRight" fmla="*/ 2111400 w 2685960"/>
              <a:gd name="textAreaTop" fmla="*/ 239760 h 1120680"/>
              <a:gd name="textAreaBottom" fmla="*/ 88092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41" y="21600"/>
                </a:lnTo>
                <a:lnTo>
                  <a:pt x="1595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8"/>
          <p:cNvGrpSpPr/>
          <p:nvPr/>
        </p:nvGrpSpPr>
        <p:grpSpPr>
          <a:xfrm>
            <a:off x="6991200" y="4610160"/>
            <a:ext cx="345960" cy="1092240"/>
            <a:chOff x="6991200" y="4610160"/>
            <a:chExt cx="345960" cy="1092240"/>
          </a:xfrm>
        </p:grpSpPr>
        <p:sp>
          <p:nvSpPr>
            <p:cNvPr id="613" name="Line 9"/>
            <p:cNvSpPr/>
            <p:nvPr/>
          </p:nvSpPr>
          <p:spPr>
            <a:xfrm>
              <a:off x="6991200" y="5702400"/>
              <a:ext cx="3459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0"/>
            <p:cNvSpPr/>
            <p:nvPr/>
          </p:nvSpPr>
          <p:spPr>
            <a:xfrm>
              <a:off x="6991200" y="4610160"/>
              <a:ext cx="34596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Line 11"/>
          <p:cNvSpPr/>
          <p:nvPr/>
        </p:nvSpPr>
        <p:spPr>
          <a:xfrm flipH="1">
            <a:off x="5899320" y="504828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2"/>
          <p:cNvSpPr/>
          <p:nvPr/>
        </p:nvSpPr>
        <p:spPr>
          <a:xfrm flipH="1" flipV="1">
            <a:off x="7865640" y="5068800"/>
            <a:ext cx="381240" cy="152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5370480" y="44578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6"/>
          <p:cNvSpPr/>
          <p:nvPr/>
        </p:nvSpPr>
        <p:spPr>
          <a:xfrm>
            <a:off x="8447040" y="4371840"/>
            <a:ext cx="2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7"/>
          <p:cNvSpPr/>
          <p:nvPr/>
        </p:nvSpPr>
        <p:spPr>
          <a:xfrm>
            <a:off x="7750080" y="55166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8"/>
          <p:cNvSpPr/>
          <p:nvPr/>
        </p:nvSpPr>
        <p:spPr>
          <a:xfrm>
            <a:off x="6039000" y="55022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 flipV="1">
            <a:off x="6488280" y="4589640"/>
            <a:ext cx="1944360" cy="110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776920" y="4573440"/>
            <a:ext cx="197496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Object 28"/>
          <p:cNvGraphicFramePr/>
          <p:nvPr/>
        </p:nvGraphicFramePr>
        <p:xfrm>
          <a:off x="2104920" y="3887640"/>
          <a:ext cx="190980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4920" y="3887640"/>
                    <a:ext cx="1909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Arc 25"/>
          <p:cNvSpPr/>
          <p:nvPr/>
        </p:nvSpPr>
        <p:spPr>
          <a:xfrm rot="18000000">
            <a:off x="7367400" y="5414400"/>
            <a:ext cx="685800" cy="64440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295368" y="-14170"/>
                  <a:pt x="415100" y="-10271"/>
                  <a:pt x="513369" y="42645"/>
                </a:cubicBezTo>
                <a:cubicBezTo>
                  <a:pt x="620015" y="100071"/>
                  <a:pt x="685801" y="206750"/>
                  <a:pt x="685801" y="322264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295368" y="-14170"/>
                  <a:pt x="415100" y="-10271"/>
                  <a:pt x="513369" y="42645"/>
                </a:cubicBezTo>
                <a:cubicBezTo>
                  <a:pt x="620015" y="100071"/>
                  <a:pt x="685801" y="206750"/>
                  <a:pt x="685801" y="322264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rc 26"/>
          <p:cNvSpPr/>
          <p:nvPr/>
        </p:nvSpPr>
        <p:spPr>
          <a:xfrm rot="18000000">
            <a:off x="7316640" y="5357160"/>
            <a:ext cx="685800" cy="64440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rc 27"/>
          <p:cNvSpPr/>
          <p:nvPr/>
        </p:nvSpPr>
        <p:spPr>
          <a:xfrm>
            <a:off x="5987880" y="5343480"/>
            <a:ext cx="685800" cy="64440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rc 28"/>
          <p:cNvSpPr/>
          <p:nvPr/>
        </p:nvSpPr>
        <p:spPr>
          <a:xfrm>
            <a:off x="6054840" y="5278320"/>
            <a:ext cx="685800" cy="644760"/>
          </a:xfrm>
          <a:custGeom>
            <a:avLst/>
            <a:gdLst/>
            <a:ahLst/>
            <a:rect l="l" t="t" r="r" b="b"/>
            <a:pathLst>
              <a:path stroke="0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  <a:lnTo>
                  <a:pt x="342900" y="322263"/>
                </a:lnTo>
                <a:lnTo>
                  <a:pt x="193437" y="32225"/>
                </a:lnTo>
                <a:close/>
              </a:path>
              <a:path fill="none" w="685800" h="644525">
                <a:moveTo>
                  <a:pt x="193437" y="32225"/>
                </a:moveTo>
                <a:cubicBezTo>
                  <a:pt x="301801" y="-17098"/>
                  <a:pt x="429751" y="-9393"/>
                  <a:pt x="530530" y="52525"/>
                </a:cubicBezTo>
                <a:cubicBezTo>
                  <a:pt x="640573" y="120134"/>
                  <a:pt x="699796" y="240922"/>
                  <a:pt x="682986" y="363466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rc 29"/>
          <p:cNvSpPr/>
          <p:nvPr/>
        </p:nvSpPr>
        <p:spPr>
          <a:xfrm rot="6000000">
            <a:off x="5716440" y="4408560"/>
            <a:ext cx="342720" cy="441360"/>
          </a:xfrm>
          <a:custGeom>
            <a:avLst/>
            <a:gdLst/>
            <a:ahLst/>
            <a:rect l="l" t="t" r="r" b="b"/>
            <a:pathLst>
              <a:path stroke="0" w="342900" h="441325">
                <a:moveTo>
                  <a:pt x="76686" y="36770"/>
                </a:moveTo>
                <a:cubicBezTo>
                  <a:pt x="141717" y="-18742"/>
                  <a:pt x="227671" y="-10732"/>
                  <a:pt x="285810" y="56259"/>
                </a:cubicBezTo>
                <a:cubicBezTo>
                  <a:pt x="326339" y="102958"/>
                  <a:pt x="347244" y="171640"/>
                  <a:pt x="342146" y="241344"/>
                </a:cubicBezTo>
                <a:lnTo>
                  <a:pt x="171450" y="220663"/>
                </a:lnTo>
                <a:lnTo>
                  <a:pt x="76686" y="36770"/>
                </a:lnTo>
                <a:close/>
              </a:path>
              <a:path fill="none" w="342900" h="441325">
                <a:moveTo>
                  <a:pt x="76686" y="36770"/>
                </a:moveTo>
                <a:cubicBezTo>
                  <a:pt x="141717" y="-18742"/>
                  <a:pt x="227671" y="-10732"/>
                  <a:pt x="285810" y="56259"/>
                </a:cubicBezTo>
                <a:cubicBezTo>
                  <a:pt x="326339" y="102958"/>
                  <a:pt x="347244" y="171640"/>
                  <a:pt x="342146" y="241344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rc 30"/>
          <p:cNvSpPr/>
          <p:nvPr/>
        </p:nvSpPr>
        <p:spPr>
          <a:xfrm rot="10800000">
            <a:off x="8075160" y="4394160"/>
            <a:ext cx="343080" cy="442800"/>
          </a:xfrm>
          <a:custGeom>
            <a:avLst/>
            <a:gdLst/>
            <a:ahLst/>
            <a:rect l="l" t="t" r="r" b="b"/>
            <a:pathLst>
              <a:path stroke="0" w="342900" h="442913">
                <a:moveTo>
                  <a:pt x="76449" y="37105"/>
                </a:moveTo>
                <a:cubicBezTo>
                  <a:pt x="141591" y="-18903"/>
                  <a:pt x="227827" y="-10830"/>
                  <a:pt x="286037" y="56725"/>
                </a:cubicBezTo>
                <a:cubicBezTo>
                  <a:pt x="326406" y="103575"/>
                  <a:pt x="347219" y="172346"/>
                  <a:pt x="342150" y="242138"/>
                </a:cubicBezTo>
                <a:lnTo>
                  <a:pt x="171450" y="221457"/>
                </a:lnTo>
                <a:lnTo>
                  <a:pt x="76449" y="37105"/>
                </a:lnTo>
                <a:close/>
              </a:path>
              <a:path fill="none" w="342900" h="442913">
                <a:moveTo>
                  <a:pt x="76449" y="37105"/>
                </a:moveTo>
                <a:cubicBezTo>
                  <a:pt x="141591" y="-18903"/>
                  <a:pt x="227827" y="-10830"/>
                  <a:pt x="286037" y="56725"/>
                </a:cubicBezTo>
                <a:cubicBezTo>
                  <a:pt x="326406" y="103575"/>
                  <a:pt x="347219" y="172346"/>
                  <a:pt x="342150" y="242138"/>
                </a:cubicBezTo>
              </a:path>
            </a:pathLst>
          </a:cu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nodeType="clickEffect" fill="hold">
                      <p:stCondLst>
                        <p:cond delay="indefinite"/>
                      </p:stCondLst>
                      <p:childTnLst>
                        <p:par>
                          <p:cTn id="2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5732640" y="3557520"/>
            <a:ext cx="180720" cy="1792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BB4-AF98-4B42-941C-2892EAA4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944720" y="1839960"/>
            <a:ext cx="70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drilateral with two distinct pairs of congruent adjacent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276120" y="184320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133960" y="2674800"/>
            <a:ext cx="1558800" cy="3048120"/>
          </a:xfrm>
          <a:custGeom>
            <a:avLst/>
            <a:gdLst/>
            <a:ahLst/>
            <a:rect l="l" t="t" r="r" b="b"/>
            <a:pathLst>
              <a:path w="1558343" h="3047310">
                <a:moveTo>
                  <a:pt x="0" y="901521"/>
                </a:moveTo>
                <a:lnTo>
                  <a:pt x="785611" y="0"/>
                </a:lnTo>
                <a:lnTo>
                  <a:pt x="1558343" y="896538"/>
                </a:lnTo>
                <a:lnTo>
                  <a:pt x="798489" y="3047310"/>
                </a:lnTo>
                <a:lnTo>
                  <a:pt x="0" y="901521"/>
                </a:lnTo>
                <a:close/>
              </a:path>
            </a:pathLst>
          </a:custGeom>
          <a:noFill/>
          <a:ln w="507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1"/>
          <p:cNvSpPr/>
          <p:nvPr/>
        </p:nvSpPr>
        <p:spPr>
          <a:xfrm flipH="1">
            <a:off x="5357880" y="444348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2"/>
          <p:cNvSpPr/>
          <p:nvPr/>
        </p:nvSpPr>
        <p:spPr>
          <a:xfrm flipH="1" flipV="1">
            <a:off x="6184440" y="4340160"/>
            <a:ext cx="381240" cy="1526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 flipH="1" flipV="1">
            <a:off x="6146280" y="4454280"/>
            <a:ext cx="381240" cy="152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5316480" y="4329000"/>
            <a:ext cx="380880" cy="2286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2"/>
          <p:cNvSpPr/>
          <p:nvPr/>
        </p:nvSpPr>
        <p:spPr>
          <a:xfrm flipH="1" flipV="1">
            <a:off x="5395320" y="2988720"/>
            <a:ext cx="306000" cy="27324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2"/>
          <p:cNvSpPr/>
          <p:nvPr/>
        </p:nvSpPr>
        <p:spPr>
          <a:xfrm flipV="1">
            <a:off x="6167160" y="2955240"/>
            <a:ext cx="273600" cy="306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428760" y="352728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1944720" y="3368520"/>
            <a:ext cx="30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s of a kit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pendicu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traight Connector 3"/>
          <p:cNvSpPr/>
          <p:nvPr/>
        </p:nvSpPr>
        <p:spPr>
          <a:xfrm>
            <a:off x="5919840" y="2670120"/>
            <a:ext cx="12600" cy="3048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traight Connector 18"/>
          <p:cNvSpPr/>
          <p:nvPr/>
        </p:nvSpPr>
        <p:spPr>
          <a:xfrm flipV="1">
            <a:off x="5133960" y="3571560"/>
            <a:ext cx="155880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delay="indefinite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6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6-5: Trapezoid &amp; K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EAD-C1AD-4E76-BBB3-B49B97DCC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5"/>
          <p:cNvSpPr/>
          <p:nvPr/>
        </p:nvSpPr>
        <p:spPr>
          <a:xfrm>
            <a:off x="7211880" y="3825720"/>
            <a:ext cx="1656000" cy="52236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40"/>
          <p:cNvSpPr/>
          <p:nvPr/>
        </p:nvSpPr>
        <p:spPr>
          <a:xfrm>
            <a:off x="7969320" y="3352680"/>
            <a:ext cx="1440" cy="3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3313080" y="167472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42"/>
          <p:cNvSpPr/>
          <p:nvPr/>
        </p:nvSpPr>
        <p:spPr>
          <a:xfrm>
            <a:off x="4199040" y="2163600"/>
            <a:ext cx="14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3"/>
          <p:cNvSpPr/>
          <p:nvPr/>
        </p:nvSpPr>
        <p:spPr>
          <a:xfrm>
            <a:off x="1911240" y="4240080"/>
            <a:ext cx="1687680" cy="39888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4"/>
          <p:cNvGrpSpPr/>
          <p:nvPr/>
        </p:nvGrpSpPr>
        <p:grpSpPr>
          <a:xfrm>
            <a:off x="2692440" y="3227400"/>
            <a:ext cx="3578040" cy="739800"/>
            <a:chOff x="2692440" y="3227400"/>
            <a:chExt cx="3578040" cy="739800"/>
          </a:xfrm>
        </p:grpSpPr>
        <p:sp>
          <p:nvSpPr>
            <p:cNvPr id="656" name="Line 45"/>
            <p:cNvSpPr/>
            <p:nvPr/>
          </p:nvSpPr>
          <p:spPr>
            <a:xfrm>
              <a:off x="4037040" y="3227400"/>
              <a:ext cx="144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46"/>
            <p:cNvSpPr/>
            <p:nvPr/>
          </p:nvSpPr>
          <p:spPr>
            <a:xfrm flipV="1">
              <a:off x="2692440" y="3727440"/>
              <a:ext cx="357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47"/>
            <p:cNvSpPr/>
            <p:nvPr/>
          </p:nvSpPr>
          <p:spPr>
            <a:xfrm flipH="1">
              <a:off x="2707920" y="3749760"/>
              <a:ext cx="111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48"/>
            <p:cNvSpPr/>
            <p:nvPr/>
          </p:nvSpPr>
          <p:spPr>
            <a:xfrm>
              <a:off x="6251400" y="3720960"/>
              <a:ext cx="180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Line 49"/>
          <p:cNvSpPr/>
          <p:nvPr/>
        </p:nvSpPr>
        <p:spPr>
          <a:xfrm flipV="1">
            <a:off x="2665440" y="5065200"/>
            <a:ext cx="3629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>
            <a:off x="2673360" y="486576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6310440" y="4822920"/>
            <a:ext cx="144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52"/>
          <p:cNvSpPr/>
          <p:nvPr/>
        </p:nvSpPr>
        <p:spPr>
          <a:xfrm>
            <a:off x="4165560" y="514512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53"/>
          <p:cNvSpPr/>
          <p:nvPr/>
        </p:nvSpPr>
        <p:spPr>
          <a:xfrm>
            <a:off x="2857680" y="2838600"/>
            <a:ext cx="2627280" cy="320400"/>
          </a:xfrm>
          <a:prstGeom prst="parallelogram">
            <a:avLst>
              <a:gd name="adj" fmla="val 205000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69"/>
          <p:cNvSpPr/>
          <p:nvPr/>
        </p:nvSpPr>
        <p:spPr>
          <a:xfrm>
            <a:off x="5541840" y="3875040"/>
            <a:ext cx="1559160" cy="1036800"/>
          </a:xfrm>
          <a:prstGeom prst="parallelogram">
            <a:avLst>
              <a:gd name="adj" fmla="val 37595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0"/>
          <p:cNvSpPr/>
          <p:nvPr/>
        </p:nvSpPr>
        <p:spPr>
          <a:xfrm>
            <a:off x="3718080" y="5281560"/>
            <a:ext cx="957240" cy="892080"/>
          </a:xfrm>
          <a:prstGeom prst="parallelogram">
            <a:avLst>
              <a:gd name="adj" fmla="val 0"/>
            </a:avLst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1"/>
          <p:cNvSpPr/>
          <p:nvPr/>
        </p:nvSpPr>
        <p:spPr>
          <a:xfrm>
            <a:off x="2666880" y="538200"/>
            <a:ext cx="320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w Ch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73"/>
          <p:cNvSpPr/>
          <p:nvPr/>
        </p:nvSpPr>
        <p:spPr>
          <a:xfrm flipV="1">
            <a:off x="1170000" y="2460600"/>
            <a:ext cx="69944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75"/>
          <p:cNvSpPr/>
          <p:nvPr/>
        </p:nvSpPr>
        <p:spPr>
          <a:xfrm>
            <a:off x="4065480" y="249228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182080" y="247968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80"/>
          <p:cNvGrpSpPr/>
          <p:nvPr/>
        </p:nvGrpSpPr>
        <p:grpSpPr>
          <a:xfrm>
            <a:off x="7462440" y="2762280"/>
            <a:ext cx="1416240" cy="587520"/>
            <a:chOff x="7462440" y="2762280"/>
            <a:chExt cx="1416240" cy="587520"/>
          </a:xfrm>
        </p:grpSpPr>
        <p:sp>
          <p:nvSpPr>
            <p:cNvPr id="672" name="AutoShape 37"/>
            <p:cNvSpPr/>
            <p:nvPr/>
          </p:nvSpPr>
          <p:spPr>
            <a:xfrm rot="10804800">
              <a:off x="7462800" y="2774520"/>
              <a:ext cx="960480" cy="560520"/>
            </a:xfrm>
            <a:custGeom>
              <a:avLst/>
              <a:gdLst>
                <a:gd name="textAreaLeft" fmla="*/ 199800 w 960480"/>
                <a:gd name="textAreaRight" fmla="*/ 760680 w 960480"/>
                <a:gd name="textAreaTop" fmla="*/ 117360 h 560520"/>
                <a:gd name="textAreaBottom" fmla="*/ 443160 h 56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38"/>
            <p:cNvSpPr/>
            <p:nvPr/>
          </p:nvSpPr>
          <p:spPr>
            <a:xfrm>
              <a:off x="8169120" y="2762280"/>
              <a:ext cx="709560" cy="584280"/>
            </a:xfrm>
            <a:prstGeom prst="rtTriangl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9"/>
            <p:cNvSpPr/>
            <p:nvPr/>
          </p:nvSpPr>
          <p:spPr>
            <a:xfrm>
              <a:off x="7532640" y="2946600"/>
              <a:ext cx="99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pez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78"/>
            <p:cNvSpPr/>
            <p:nvPr/>
          </p:nvSpPr>
          <p:spPr>
            <a:xfrm>
              <a:off x="7929360" y="3337200"/>
              <a:ext cx="9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9"/>
            <p:cNvSpPr/>
            <p:nvPr/>
          </p:nvSpPr>
          <p:spPr>
            <a:xfrm flipH="1" flipV="1">
              <a:off x="8178480" y="2776680"/>
              <a:ext cx="67140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Line 74"/>
          <p:cNvSpPr/>
          <p:nvPr/>
        </p:nvSpPr>
        <p:spPr>
          <a:xfrm>
            <a:off x="1170000" y="247968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3"/>
          <p:cNvGrpSpPr/>
          <p:nvPr/>
        </p:nvGrpSpPr>
        <p:grpSpPr>
          <a:xfrm>
            <a:off x="593280" y="2651040"/>
            <a:ext cx="1155960" cy="590760"/>
            <a:chOff x="593280" y="2651040"/>
            <a:chExt cx="1155960" cy="590760"/>
          </a:xfrm>
        </p:grpSpPr>
        <p:sp>
          <p:nvSpPr>
            <p:cNvPr id="679" name="Diamond 1"/>
            <p:cNvSpPr/>
            <p:nvPr/>
          </p:nvSpPr>
          <p:spPr>
            <a:xfrm rot="5400000">
              <a:off x="875880" y="2368440"/>
              <a:ext cx="590760" cy="1155960"/>
            </a:xfrm>
            <a:custGeom>
              <a:avLst/>
              <a:gdLst/>
              <a:ahLst/>
              <a:rect l="l" t="t" r="r" b="b"/>
              <a:pathLst>
                <a:path w="590439" h="674984">
                  <a:moveTo>
                    <a:pt x="0" y="466281"/>
                  </a:moveTo>
                  <a:lnTo>
                    <a:pt x="295220" y="0"/>
                  </a:lnTo>
                  <a:lnTo>
                    <a:pt x="590439" y="466281"/>
                  </a:lnTo>
                  <a:lnTo>
                    <a:pt x="308099" y="674984"/>
                  </a:lnTo>
                  <a:lnTo>
                    <a:pt x="0" y="466281"/>
                  </a:lnTo>
                  <a:close/>
                </a:path>
              </a:pathLst>
            </a:custGeom>
            <a:solidFill>
              <a:srgbClr val="4f81bd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Box 2"/>
            <p:cNvSpPr/>
            <p:nvPr/>
          </p:nvSpPr>
          <p:spPr>
            <a:xfrm>
              <a:off x="684000" y="275616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nodeType="clickEffect" fill="hold">
                      <p:stCondLst>
                        <p:cond delay="0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e 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e sides of a parallelogram are congr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means that                        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, if AB = 7, then _____ = 7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388620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5"/>
          <p:cNvGraphicFramePr/>
          <p:nvPr/>
        </p:nvGraphicFramePr>
        <p:xfrm>
          <a:off x="4267080" y="4724280"/>
          <a:ext cx="3962520" cy="4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724280"/>
                    <a:ext cx="39625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 rot="1080000">
            <a:off x="4716360" y="3522240"/>
            <a:ext cx="335160" cy="76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 rot="1080000">
            <a:off x="7391160" y="3504960"/>
            <a:ext cx="334800" cy="7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6"/>
          <a:stretch/>
        </p:blipFill>
        <p:spPr>
          <a:xfrm>
            <a:off x="6172200" y="2743200"/>
            <a:ext cx="196920" cy="36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5867280" y="3962520"/>
            <a:ext cx="196920" cy="36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e Ang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360" y="18288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pair of opposite angles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The other pair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3276720" cy="188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e Ang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360" y="18288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em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posite angles of a parallelogram are congru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lete:  If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 = 75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      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 = 105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then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 = ______ and m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 = ______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809880" y="586728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791320" y="510552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>
            <a:alphaModFix amt="3000"/>
          </a:blip>
          <a:stretch/>
        </p:blipFill>
        <p:spPr>
          <a:xfrm rot="6000000">
            <a:off x="4024080" y="5043240"/>
            <a:ext cx="276120" cy="24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>
            <a:alphaModFix amt="3000"/>
          </a:blip>
          <a:stretch/>
        </p:blipFill>
        <p:spPr>
          <a:xfrm rot="16800000">
            <a:off x="5700600" y="6033600"/>
            <a:ext cx="276120" cy="24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5"/>
          <a:stretch/>
        </p:blipFill>
        <p:spPr>
          <a:xfrm>
            <a:off x="3352680" y="4724280"/>
            <a:ext cx="3276720" cy="188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cutive Ang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ach angle is consecutive to two other angles.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is consecutive with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 and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4495680" cy="27241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 rot="16200000">
            <a:off x="3043800" y="4195080"/>
            <a:ext cx="392400" cy="2822400"/>
          </a:xfrm>
          <a:custGeom>
            <a:avLst/>
            <a:gdLst>
              <a:gd name="textAreaLeft" fmla="*/ 52560 w 392400"/>
              <a:gd name="textAreaRight" fmla="*/ 339840 w 392400"/>
              <a:gd name="textAreaTop" fmla="*/ 493920 h 2822400"/>
              <a:gd name="textAreaBottom" fmla="*/ 2046240 h 28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 rot="11400000">
            <a:off x="1801080" y="3952440"/>
            <a:ext cx="849240" cy="1981440"/>
          </a:xfrm>
          <a:custGeom>
            <a:avLst/>
            <a:gdLst>
              <a:gd name="textAreaLeft" fmla="*/ 113760 w 849240"/>
              <a:gd name="textAreaRight" fmla="*/ 735480 w 84924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ecutive Angles in Parallel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ecutive angles in a parallelogram are supplement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= 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                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 = 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m&lt;C = 4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= _____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3124440" cy="1892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5638680" y="3657600"/>
            <a:ext cx="3505320" cy="3581280"/>
          </a:xfrm>
          <a:prstGeom prst="irregularSeal1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cu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gl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V="1">
            <a:off x="1752480" y="4419720"/>
            <a:ext cx="533520" cy="21333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 flipV="1">
            <a:off x="3886200" y="4419720"/>
            <a:ext cx="533520" cy="21333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295280" y="6172200"/>
            <a:ext cx="312444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1"/>
          <p:cNvSpPr/>
          <p:nvPr/>
        </p:nvSpPr>
        <p:spPr>
          <a:xfrm flipV="1">
            <a:off x="1905120" y="5562720"/>
            <a:ext cx="75960" cy="3808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V="1">
            <a:off x="4038480" y="5562720"/>
            <a:ext cx="76320" cy="3808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4"/>
          <p:cNvSpPr/>
          <p:nvPr/>
        </p:nvSpPr>
        <p:spPr>
          <a:xfrm rot="16200000">
            <a:off x="2819520" y="4647960"/>
            <a:ext cx="533160" cy="2361960"/>
          </a:xfrm>
          <a:custGeom>
            <a:avLst/>
            <a:gdLst>
              <a:gd name="textAreaLeft" fmla="*/ 71280 w 533160"/>
              <a:gd name="textAreaRight" fmla="*/ 461880 w 53316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9:42:48Z</dcterms:created>
  <dc:creator>HCPS</dc:creator>
  <dc:description/>
  <dc:language>en-US</dc:language>
  <cp:lastModifiedBy>Cynthia H. Morgan</cp:lastModifiedBy>
  <dcterms:modified xsi:type="dcterms:W3CDTF">2014-03-07T21:11:28Z</dcterms:modified>
  <cp:revision>33</cp:revision>
  <dc:subject/>
  <dc:title>Properties of Parallelograms</dc:title>
</cp:coreProperties>
</file>